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4F8-7745-4517-90BE-C8A7421CE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CD0-3108-43B6-B428-6A6B7A53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E1D-0F0D-4583-BC53-43361B9C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123-1BED-47D3-A424-D76E44924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FA9B-9FBA-430F-955D-CA2D5755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B522-E793-4E06-A449-CF28B375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E809-71E4-4B62-A859-9BFAF9DC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2A46-0DE8-4D6D-9B21-ABF8BE5D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E92A-3474-4BF6-A371-BC4E2216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34919-49BF-428B-A0A8-2C0D5D71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3B9BB-0AAE-485E-8A5E-AC5635D7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B09-E68D-498B-82EF-B5CF0FE2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85A2-290F-45A4-A64D-0ABB96C0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D688-449B-4F98-B364-6C610B7A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3104-9BEA-409B-9A63-09227365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229E-62E5-4C19-8824-FA4F8186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6C1F-81E9-48A2-A3B7-E4097E91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924-FEFC-4F2D-A7CE-65B7C165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4400-6A30-473E-84EE-59491B55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E39-92C3-464F-AAB0-367B37C5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4D0-F2A3-4FAD-AFEF-93D03A9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F043-242B-4126-A802-25F67A77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217-DCEC-485D-BDFF-A876358E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6FF-6B8F-4686-A71D-2210912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9EC6-6CFE-4DE1-A014-BB2828A3DE4B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Monotype Corsiv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97AE-E107-4EFA-83E2-F5DCFA0C796D}" type="slidenum">
              <a:rPr b="0" lang="ro-RO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" Target="slide13.xml"/><Relationship Id="rId14" Type="http://schemas.openxmlformats.org/officeDocument/2006/relationships/slide" Target="slide14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2.xml"/><Relationship Id="rId6" Type="http://schemas.openxmlformats.org/officeDocument/2006/relationships/slide" Target="slide23.xml"/><Relationship Id="rId7" Type="http://schemas.openxmlformats.org/officeDocument/2006/relationships/slide" Target="slide23.xml"/><Relationship Id="rId8" Type="http://schemas.openxmlformats.org/officeDocument/2006/relationships/slide" Target="slide22.xml"/><Relationship Id="rId9" Type="http://schemas.openxmlformats.org/officeDocument/2006/relationships/slide" Target="slide23.xml"/><Relationship Id="rId10" Type="http://schemas.openxmlformats.org/officeDocument/2006/relationships/slide" Target="slide23.xml"/><Relationship Id="rId11" Type="http://schemas.openxmlformats.org/officeDocument/2006/relationships/slide" Target="slide22.xml"/><Relationship Id="rId12" Type="http://schemas.openxmlformats.org/officeDocument/2006/relationships/slide" Target="slide23.xm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1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7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" Target="slide7.xml"/><Relationship Id="rId14" Type="http://schemas.openxmlformats.org/officeDocument/2006/relationships/slide" Target="slide6.xml"/><Relationship Id="rId15" Type="http://schemas.openxmlformats.org/officeDocument/2006/relationships/slide" Target="slide7.xml"/><Relationship Id="rId16" Type="http://schemas.openxmlformats.org/officeDocument/2006/relationships/slide" Target="slide7.xml"/><Relationship Id="rId17" Type="http://schemas.openxmlformats.org/officeDocument/2006/relationships/slide" Target="slide6.xml"/><Relationship Id="rId18" Type="http://schemas.openxmlformats.org/officeDocument/2006/relationships/slide" Target="slide7.xml"/><Relationship Id="rId19" Type="http://schemas.openxmlformats.org/officeDocument/2006/relationships/slide" Target="slide6.xml"/><Relationship Id="rId20" Type="http://schemas.openxmlformats.org/officeDocument/2006/relationships/slide" Target="slide7.xml"/><Relationship Id="rId21" Type="http://schemas.openxmlformats.org/officeDocument/2006/relationships/slide" Target="slide7.xml"/><Relationship Id="rId22" Type="http://schemas.openxmlformats.org/officeDocument/2006/relationships/slide" Target="slide7.xml"/><Relationship Id="rId23" Type="http://schemas.openxmlformats.org/officeDocument/2006/relationships/slide" Target="slide6.xml"/><Relationship Id="rId24" Type="http://schemas.openxmlformats.org/officeDocument/2006/relationships/slide" Target="slide7.xml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RCIT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WordArt 4"/>
          <p:cNvSpPr txBox="1"/>
          <p:nvPr/>
        </p:nvSpPr>
        <p:spPr>
          <a:xfrm>
            <a:off x="1835280" y="1700280"/>
            <a:ext cx="583236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ractii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3348000" y="5805360"/>
            <a:ext cx="4336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a sa incepi apasa aici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AutoShape 6">
            <a:hlinkClick r:id="rId1" action="ppaction://hlinksldjump"/>
          </p:cNvPr>
          <p:cNvSpPr/>
          <p:nvPr/>
        </p:nvSpPr>
        <p:spPr>
          <a:xfrm>
            <a:off x="7740720" y="5661000"/>
            <a:ext cx="1079280" cy="720720"/>
          </a:xfrm>
          <a:custGeom>
            <a:avLst/>
            <a:gdLst>
              <a:gd name="textAreaLeft" fmla="*/ 46440 w 1079280"/>
              <a:gd name="textAreaRight" fmla="*/ 1032840 w 107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41" h="21600">
                <a:moveTo>
                  <a:pt x="0" y="0"/>
                </a:moveTo>
                <a:lnTo>
                  <a:pt x="32341" y="0"/>
                </a:lnTo>
                <a:lnTo>
                  <a:pt x="32341" y="21600"/>
                </a:lnTo>
                <a:lnTo>
                  <a:pt x="0" y="21600"/>
                </a:lnTo>
                <a:close/>
              </a:path>
              <a:path fill="lightenLess" w="32341" h="21600">
                <a:moveTo>
                  <a:pt x="0" y="0"/>
                </a:moveTo>
                <a:lnTo>
                  <a:pt x="32341" y="0"/>
                </a:lnTo>
                <a:lnTo>
                  <a:pt x="30941" y="1400"/>
                </a:lnTo>
                <a:lnTo>
                  <a:pt x="1400" y="1400"/>
                </a:lnTo>
                <a:close/>
              </a:path>
              <a:path fill="darken" w="32341" h="21600">
                <a:moveTo>
                  <a:pt x="32341" y="0"/>
                </a:moveTo>
                <a:lnTo>
                  <a:pt x="32341" y="21600"/>
                </a:lnTo>
                <a:lnTo>
                  <a:pt x="30941" y="20200"/>
                </a:lnTo>
                <a:lnTo>
                  <a:pt x="30941" y="1400"/>
                </a:lnTo>
                <a:close/>
              </a:path>
              <a:path fill="darkenLess" w="32341" h="21600">
                <a:moveTo>
                  <a:pt x="323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41" y="20200"/>
                </a:lnTo>
                <a:close/>
              </a:path>
              <a:path fill="lighten" w="323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41" h="21600">
                <a:moveTo>
                  <a:pt x="12671" y="10800"/>
                </a:moveTo>
                <a:lnTo>
                  <a:pt x="23177" y="3794"/>
                </a:lnTo>
                <a:lnTo>
                  <a:pt x="23177" y="17806"/>
                </a:lnTo>
                <a:close/>
              </a:path>
              <a:path fill="darken" w="32341" h="21600">
                <a:moveTo>
                  <a:pt x="9164" y="3794"/>
                </a:moveTo>
                <a:lnTo>
                  <a:pt x="10826" y="3794"/>
                </a:lnTo>
                <a:lnTo>
                  <a:pt x="10826" y="17806"/>
                </a:lnTo>
                <a:lnTo>
                  <a:pt x="9164" y="17806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WordArt 4"/>
          <p:cNvSpPr txBox="1"/>
          <p:nvPr/>
        </p:nvSpPr>
        <p:spPr>
          <a:xfrm>
            <a:off x="684360" y="105264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licitari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2987640" y="3068640"/>
            <a:ext cx="2943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spuns corec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WordArt 6"/>
          <p:cNvSpPr txBox="1"/>
          <p:nvPr/>
        </p:nvSpPr>
        <p:spPr>
          <a:xfrm>
            <a:off x="1619280" y="386064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i aflat care e valoarea prieteniei!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4" name="AutoShape 7">
            <a:hlinkClick r:id="rId1" action="ppaction://hlinksldjump"/>
          </p:cNvPr>
          <p:cNvSpPr/>
          <p:nvPr/>
        </p:nvSpPr>
        <p:spPr>
          <a:xfrm>
            <a:off x="4859280" y="4724280"/>
            <a:ext cx="3241800" cy="576360"/>
          </a:xfrm>
          <a:custGeom>
            <a:avLst/>
            <a:gdLst>
              <a:gd name="textAreaLeft" fmla="*/ 37080 w 3241800"/>
              <a:gd name="textAreaRight" fmla="*/ 3204720 w 3241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21429" h="21600">
                <a:moveTo>
                  <a:pt x="0" y="0"/>
                </a:moveTo>
                <a:lnTo>
                  <a:pt x="121429" y="0"/>
                </a:lnTo>
                <a:lnTo>
                  <a:pt x="121429" y="21600"/>
                </a:lnTo>
                <a:lnTo>
                  <a:pt x="0" y="21600"/>
                </a:lnTo>
                <a:close/>
              </a:path>
              <a:path fill="lightenLess" w="121429" h="21600">
                <a:moveTo>
                  <a:pt x="0" y="0"/>
                </a:moveTo>
                <a:lnTo>
                  <a:pt x="121429" y="0"/>
                </a:lnTo>
                <a:lnTo>
                  <a:pt x="120029" y="1400"/>
                </a:lnTo>
                <a:lnTo>
                  <a:pt x="1400" y="1400"/>
                </a:lnTo>
                <a:close/>
              </a:path>
              <a:path fill="darken" w="121429" h="21600">
                <a:moveTo>
                  <a:pt x="121429" y="0"/>
                </a:moveTo>
                <a:lnTo>
                  <a:pt x="121429" y="21600"/>
                </a:lnTo>
                <a:lnTo>
                  <a:pt x="120029" y="20200"/>
                </a:lnTo>
                <a:lnTo>
                  <a:pt x="120029" y="1400"/>
                </a:lnTo>
                <a:close/>
              </a:path>
              <a:path fill="darkenLess" w="121429" h="21600">
                <a:moveTo>
                  <a:pt x="121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29" y="20200"/>
                </a:lnTo>
                <a:close/>
              </a:path>
              <a:path fill="lighten" w="121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ef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gi mai departe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Daca din 120 d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fluturasi    sunt galbeni iar restul sunt albastri ,calculeaza cati fluturi albastri sun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2627280" y="2133720"/>
                <a:ext cx="300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58" name="Object 6"/>
          <p:cNvGraphicFramePr/>
          <p:nvPr/>
        </p:nvGraphicFramePr>
        <p:xfrm>
          <a:off x="468360" y="333360"/>
          <a:ext cx="165240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3360"/>
                    <a:ext cx="165240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8"/>
          <p:cNvGraphicFramePr/>
          <p:nvPr/>
        </p:nvGraphicFramePr>
        <p:xfrm>
          <a:off x="2700360" y="333360"/>
          <a:ext cx="1655640" cy="122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33360"/>
                    <a:ext cx="1655640" cy="12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9"/>
          <p:cNvGraphicFramePr/>
          <p:nvPr/>
        </p:nvGraphicFramePr>
        <p:xfrm>
          <a:off x="4859280" y="333360"/>
          <a:ext cx="177660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333360"/>
                    <a:ext cx="177660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10"/>
          <p:cNvGraphicFramePr/>
          <p:nvPr/>
        </p:nvGraphicFramePr>
        <p:xfrm>
          <a:off x="611280" y="5300640"/>
          <a:ext cx="1800000" cy="1268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5300640"/>
                    <a:ext cx="180000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11"/>
          <p:cNvGraphicFramePr/>
          <p:nvPr/>
        </p:nvGraphicFramePr>
        <p:xfrm>
          <a:off x="2987640" y="5300640"/>
          <a:ext cx="1655640" cy="118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87640" y="5300640"/>
                    <a:ext cx="165564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12"/>
          <p:cNvGraphicFramePr/>
          <p:nvPr/>
        </p:nvGraphicFramePr>
        <p:xfrm>
          <a:off x="5364000" y="5300640"/>
          <a:ext cx="1570320" cy="111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64000" y="5300640"/>
                    <a:ext cx="15703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AutoShape 13">
            <a:hlinkClick r:id="rId13" action="ppaction://hlinksldjump"/>
          </p:cNvPr>
          <p:cNvSpPr/>
          <p:nvPr/>
        </p:nvSpPr>
        <p:spPr>
          <a:xfrm>
            <a:off x="5003640" y="2205000"/>
            <a:ext cx="792360" cy="5032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3998" h="21600">
                <a:moveTo>
                  <a:pt x="0" y="0"/>
                </a:moveTo>
                <a:lnTo>
                  <a:pt x="33998" y="0"/>
                </a:lnTo>
                <a:lnTo>
                  <a:pt x="33998" y="21600"/>
                </a:lnTo>
                <a:lnTo>
                  <a:pt x="0" y="21600"/>
                </a:lnTo>
                <a:close/>
              </a:path>
              <a:path fill="lightenLess" w="33998" h="21600">
                <a:moveTo>
                  <a:pt x="0" y="0"/>
                </a:moveTo>
                <a:lnTo>
                  <a:pt x="33998" y="0"/>
                </a:lnTo>
                <a:lnTo>
                  <a:pt x="32598" y="1400"/>
                </a:lnTo>
                <a:lnTo>
                  <a:pt x="1400" y="1400"/>
                </a:lnTo>
                <a:close/>
              </a:path>
              <a:path fill="darken" w="33998" h="21600">
                <a:moveTo>
                  <a:pt x="33998" y="0"/>
                </a:moveTo>
                <a:lnTo>
                  <a:pt x="33998" y="21600"/>
                </a:lnTo>
                <a:lnTo>
                  <a:pt x="32598" y="20200"/>
                </a:lnTo>
                <a:lnTo>
                  <a:pt x="32598" y="1400"/>
                </a:lnTo>
                <a:close/>
              </a:path>
              <a:path fill="darkenLess" w="33998" h="21600">
                <a:moveTo>
                  <a:pt x="33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98" y="20200"/>
                </a:lnTo>
                <a:close/>
              </a:path>
              <a:path fill="lighten" w="33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1" name="AutoShape 14">
            <a:hlinkClick r:id="rId14" action="ppaction://hlinksldjump"/>
          </p:cNvPr>
          <p:cNvSpPr/>
          <p:nvPr/>
        </p:nvSpPr>
        <p:spPr>
          <a:xfrm>
            <a:off x="5003640" y="3068640"/>
            <a:ext cx="792360" cy="50472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3901" h="21600">
                <a:moveTo>
                  <a:pt x="0" y="0"/>
                </a:moveTo>
                <a:lnTo>
                  <a:pt x="33901" y="0"/>
                </a:lnTo>
                <a:lnTo>
                  <a:pt x="33901" y="21600"/>
                </a:lnTo>
                <a:lnTo>
                  <a:pt x="0" y="21600"/>
                </a:lnTo>
                <a:close/>
              </a:path>
              <a:path fill="lightenLess" w="33901" h="21600">
                <a:moveTo>
                  <a:pt x="0" y="0"/>
                </a:moveTo>
                <a:lnTo>
                  <a:pt x="33901" y="0"/>
                </a:lnTo>
                <a:lnTo>
                  <a:pt x="32501" y="1400"/>
                </a:lnTo>
                <a:lnTo>
                  <a:pt x="1400" y="1400"/>
                </a:lnTo>
                <a:close/>
              </a:path>
              <a:path fill="darken" w="33901" h="21600">
                <a:moveTo>
                  <a:pt x="33901" y="0"/>
                </a:moveTo>
                <a:lnTo>
                  <a:pt x="33901" y="21600"/>
                </a:lnTo>
                <a:lnTo>
                  <a:pt x="32501" y="20200"/>
                </a:lnTo>
                <a:lnTo>
                  <a:pt x="32501" y="1400"/>
                </a:lnTo>
                <a:close/>
              </a:path>
              <a:path fill="darkenLess" w="33901" h="21600">
                <a:moveTo>
                  <a:pt x="339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01" y="20200"/>
                </a:lnTo>
                <a:close/>
              </a:path>
              <a:path fill="lighten" w="339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2" name="AutoShape 15">
            <a:hlinkClick r:id="rId15" action="ppaction://hlinksldjump"/>
          </p:cNvPr>
          <p:cNvSpPr/>
          <p:nvPr/>
        </p:nvSpPr>
        <p:spPr>
          <a:xfrm>
            <a:off x="5003640" y="3860640"/>
            <a:ext cx="792360" cy="505080"/>
          </a:xfrm>
          <a:custGeom>
            <a:avLst/>
            <a:gdLst>
              <a:gd name="textAreaLeft" fmla="*/ 32400 w 792360"/>
              <a:gd name="textAreaRight" fmla="*/ 759960 w 792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33877" h="21600">
                <a:moveTo>
                  <a:pt x="0" y="0"/>
                </a:moveTo>
                <a:lnTo>
                  <a:pt x="33877" y="0"/>
                </a:lnTo>
                <a:lnTo>
                  <a:pt x="33877" y="21600"/>
                </a:lnTo>
                <a:lnTo>
                  <a:pt x="0" y="21600"/>
                </a:lnTo>
                <a:close/>
              </a:path>
              <a:path fill="lightenLess" w="33877" h="21600">
                <a:moveTo>
                  <a:pt x="0" y="0"/>
                </a:moveTo>
                <a:lnTo>
                  <a:pt x="33877" y="0"/>
                </a:lnTo>
                <a:lnTo>
                  <a:pt x="32477" y="1400"/>
                </a:lnTo>
                <a:lnTo>
                  <a:pt x="1400" y="1400"/>
                </a:lnTo>
                <a:close/>
              </a:path>
              <a:path fill="darken" w="33877" h="21600">
                <a:moveTo>
                  <a:pt x="33877" y="0"/>
                </a:moveTo>
                <a:lnTo>
                  <a:pt x="33877" y="21600"/>
                </a:lnTo>
                <a:lnTo>
                  <a:pt x="32477" y="20200"/>
                </a:lnTo>
                <a:lnTo>
                  <a:pt x="32477" y="1400"/>
                </a:lnTo>
                <a:close/>
              </a:path>
              <a:path fill="darkenLess" w="33877" h="21600">
                <a:moveTo>
                  <a:pt x="338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477" y="20200"/>
                </a:lnTo>
                <a:close/>
              </a:path>
              <a:path fill="lighten" w="338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onotype Corsiva"/>
              </a:rPr>
              <a:t>Mai incearca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Doar asa vei afla valoarea prieteniei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AutoShape 4">
            <a:hlinkClick r:id="rId1" action="ppaction://hlinksldjump"/>
          </p:cNvPr>
          <p:cNvSpPr/>
          <p:nvPr/>
        </p:nvSpPr>
        <p:spPr>
          <a:xfrm>
            <a:off x="5508720" y="3141720"/>
            <a:ext cx="2016000" cy="1800000"/>
          </a:xfrm>
          <a:custGeom>
            <a:avLst/>
            <a:gdLst>
              <a:gd name="textAreaLeft" fmla="*/ 116640 w 2016000"/>
              <a:gd name="textAreaRight" fmla="*/ 1899360 w 2016000"/>
              <a:gd name="textAreaTop" fmla="*/ 116640 h 1800000"/>
              <a:gd name="textAreaBottom" fmla="*/ 1683360 h 1800000"/>
            </a:gdLst>
            <a:ahLst/>
            <a:rect l="textAreaLeft" t="textAreaTop" r="textAreaRight" b="textAreaBottom"/>
            <a:pathLst>
              <a:path w="24191" h="21600">
                <a:moveTo>
                  <a:pt x="0" y="0"/>
                </a:moveTo>
                <a:lnTo>
                  <a:pt x="24191" y="0"/>
                </a:lnTo>
                <a:lnTo>
                  <a:pt x="24191" y="21600"/>
                </a:lnTo>
                <a:lnTo>
                  <a:pt x="0" y="21600"/>
                </a:lnTo>
                <a:close/>
              </a:path>
              <a:path fill="lightenLess" w="24191" h="21600">
                <a:moveTo>
                  <a:pt x="0" y="0"/>
                </a:moveTo>
                <a:lnTo>
                  <a:pt x="24191" y="0"/>
                </a:lnTo>
                <a:lnTo>
                  <a:pt x="22792" y="1400"/>
                </a:lnTo>
                <a:lnTo>
                  <a:pt x="1400" y="1400"/>
                </a:lnTo>
                <a:close/>
              </a:path>
              <a:path fill="darken" w="24191" h="21600">
                <a:moveTo>
                  <a:pt x="24191" y="0"/>
                </a:moveTo>
                <a:lnTo>
                  <a:pt x="24191" y="21600"/>
                </a:lnTo>
                <a:lnTo>
                  <a:pt x="22792" y="20200"/>
                </a:lnTo>
                <a:lnTo>
                  <a:pt x="22792" y="1400"/>
                </a:lnTo>
                <a:close/>
              </a:path>
              <a:path fill="darkenLess" w="24191" h="21600">
                <a:moveTo>
                  <a:pt x="241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92" y="20200"/>
                </a:lnTo>
                <a:close/>
              </a:path>
              <a:path fill="lighten" w="241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703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apoi l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852640"/>
            <a:ext cx="7696080" cy="263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Mai incearca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Monotype Corsiva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Inapoi la problema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WordArt 4"/>
          <p:cNvSpPr txBox="1"/>
          <p:nvPr/>
        </p:nvSpPr>
        <p:spPr>
          <a:xfrm>
            <a:off x="1763640" y="692280"/>
            <a:ext cx="532764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Ai gres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79" name="AutoShape 5">
            <a:hlinkClick r:id="rId3" action="ppaction://hlinksldjump"/>
          </p:cNvPr>
          <p:cNvSpPr/>
          <p:nvPr/>
        </p:nvSpPr>
        <p:spPr>
          <a:xfrm>
            <a:off x="6516720" y="4581360"/>
            <a:ext cx="934920" cy="719280"/>
          </a:xfrm>
          <a:custGeom>
            <a:avLst/>
            <a:gdLst>
              <a:gd name="textAreaLeft" fmla="*/ 46440 w 934920"/>
              <a:gd name="textAreaRight" fmla="*/ 888480 w 934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8072" h="21600">
                <a:moveTo>
                  <a:pt x="0" y="0"/>
                </a:moveTo>
                <a:lnTo>
                  <a:pt x="28072" y="0"/>
                </a:lnTo>
                <a:lnTo>
                  <a:pt x="28072" y="21600"/>
                </a:lnTo>
                <a:lnTo>
                  <a:pt x="0" y="21600"/>
                </a:lnTo>
                <a:close/>
              </a:path>
              <a:path fill="lightenLess" w="28072" h="21600">
                <a:moveTo>
                  <a:pt x="0" y="0"/>
                </a:moveTo>
                <a:lnTo>
                  <a:pt x="28072" y="0"/>
                </a:lnTo>
                <a:lnTo>
                  <a:pt x="26673" y="1400"/>
                </a:lnTo>
                <a:lnTo>
                  <a:pt x="1400" y="1400"/>
                </a:lnTo>
                <a:close/>
              </a:path>
              <a:path fill="darken" w="28072" h="21600">
                <a:moveTo>
                  <a:pt x="28072" y="0"/>
                </a:moveTo>
                <a:lnTo>
                  <a:pt x="28072" y="21600"/>
                </a:lnTo>
                <a:lnTo>
                  <a:pt x="26673" y="20200"/>
                </a:lnTo>
                <a:lnTo>
                  <a:pt x="26673" y="1400"/>
                </a:lnTo>
                <a:close/>
              </a:path>
              <a:path fill="darkenLess" w="28072" h="21600">
                <a:moveTo>
                  <a:pt x="28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3" y="20200"/>
                </a:lnTo>
                <a:close/>
              </a:path>
              <a:path fill="lighten" w="28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WordArt 4"/>
          <p:cNvSpPr txBox="1"/>
          <p:nvPr/>
        </p:nvSpPr>
        <p:spPr>
          <a:xfrm>
            <a:off x="684360" y="1052640"/>
            <a:ext cx="7129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elicitari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83" name="WordArt 5"/>
          <p:cNvSpPr txBox="1"/>
          <p:nvPr/>
        </p:nvSpPr>
        <p:spPr>
          <a:xfrm>
            <a:off x="2987640" y="3068640"/>
            <a:ext cx="2943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aspuns corec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4" name="AutoShape 7">
            <a:hlinkClick r:id="rId1" action="ppaction://hlinksldjump"/>
          </p:cNvPr>
          <p:cNvSpPr/>
          <p:nvPr/>
        </p:nvSpPr>
        <p:spPr>
          <a:xfrm>
            <a:off x="4859280" y="4724280"/>
            <a:ext cx="3241800" cy="576360"/>
          </a:xfrm>
          <a:custGeom>
            <a:avLst/>
            <a:gdLst>
              <a:gd name="textAreaLeft" fmla="*/ 37080 w 3241800"/>
              <a:gd name="textAreaRight" fmla="*/ 3204720 w 32418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121429" h="21600">
                <a:moveTo>
                  <a:pt x="0" y="0"/>
                </a:moveTo>
                <a:lnTo>
                  <a:pt x="121429" y="0"/>
                </a:lnTo>
                <a:lnTo>
                  <a:pt x="121429" y="21600"/>
                </a:lnTo>
                <a:lnTo>
                  <a:pt x="0" y="21600"/>
                </a:lnTo>
                <a:close/>
              </a:path>
              <a:path fill="lightenLess" w="121429" h="21600">
                <a:moveTo>
                  <a:pt x="0" y="0"/>
                </a:moveTo>
                <a:lnTo>
                  <a:pt x="121429" y="0"/>
                </a:lnTo>
                <a:lnTo>
                  <a:pt x="120029" y="1400"/>
                </a:lnTo>
                <a:lnTo>
                  <a:pt x="1400" y="1400"/>
                </a:lnTo>
                <a:close/>
              </a:path>
              <a:path fill="darken" w="121429" h="21600">
                <a:moveTo>
                  <a:pt x="121429" y="0"/>
                </a:moveTo>
                <a:lnTo>
                  <a:pt x="121429" y="21600"/>
                </a:lnTo>
                <a:lnTo>
                  <a:pt x="120029" y="20200"/>
                </a:lnTo>
                <a:lnTo>
                  <a:pt x="120029" y="1400"/>
                </a:lnTo>
                <a:close/>
              </a:path>
              <a:path fill="darkenLess" w="121429" h="21600">
                <a:moveTo>
                  <a:pt x="1214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029" y="20200"/>
                </a:lnTo>
                <a:close/>
              </a:path>
              <a:path fill="lighten" w="1214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50000">
                <a:srgbClr val="ffef66"/>
              </a:gs>
              <a:gs pos="100000">
                <a:srgbClr val="ff66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rgi mai departe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02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ca    din drumul parcurs de fluviul Dunarea pe teritoriul tarii noastre reprezinta 430 km.Ce lungime are Dunarea pe taramul Romaniei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4"/>
              <p:cNvSpPr txBox="1"/>
              <p:nvPr/>
            </p:nvSpPr>
            <p:spPr>
              <a:xfrm>
                <a:off x="1979640" y="1628640"/>
                <a:ext cx="235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AutoShape 6">
            <a:hlinkClick r:id="rId1" action="ppaction://hlinksldjump"/>
          </p:cNvPr>
          <p:cNvSpPr/>
          <p:nvPr/>
        </p:nvSpPr>
        <p:spPr>
          <a:xfrm>
            <a:off x="1258920" y="4076640"/>
            <a:ext cx="865080" cy="43200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236" h="21600">
                <a:moveTo>
                  <a:pt x="0" y="0"/>
                </a:moveTo>
                <a:lnTo>
                  <a:pt x="43236" y="0"/>
                </a:lnTo>
                <a:lnTo>
                  <a:pt x="43236" y="21600"/>
                </a:lnTo>
                <a:lnTo>
                  <a:pt x="0" y="21600"/>
                </a:lnTo>
                <a:close/>
              </a:path>
              <a:path fill="lightenLess" w="43236" h="21600">
                <a:moveTo>
                  <a:pt x="0" y="0"/>
                </a:moveTo>
                <a:lnTo>
                  <a:pt x="43236" y="0"/>
                </a:lnTo>
                <a:lnTo>
                  <a:pt x="41836" y="1400"/>
                </a:lnTo>
                <a:lnTo>
                  <a:pt x="1400" y="1400"/>
                </a:lnTo>
                <a:close/>
              </a:path>
              <a:path fill="darken" w="43236" h="21600">
                <a:moveTo>
                  <a:pt x="43236" y="0"/>
                </a:moveTo>
                <a:lnTo>
                  <a:pt x="43236" y="21600"/>
                </a:lnTo>
                <a:lnTo>
                  <a:pt x="41836" y="20200"/>
                </a:lnTo>
                <a:lnTo>
                  <a:pt x="41836" y="1400"/>
                </a:lnTo>
                <a:close/>
              </a:path>
              <a:path fill="darkenLess" w="43236" h="21600">
                <a:moveTo>
                  <a:pt x="43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36" y="20200"/>
                </a:lnTo>
                <a:close/>
              </a:path>
              <a:path fill="lighten" w="43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50000">
                <a:srgbClr val="ccecff"/>
              </a:gs>
              <a:gs pos="100000">
                <a:srgbClr val="703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9" name="AutoShape 7">
            <a:hlinkClick r:id="rId2" action="ppaction://hlinksldjump"/>
          </p:cNvPr>
          <p:cNvSpPr/>
          <p:nvPr/>
        </p:nvSpPr>
        <p:spPr>
          <a:xfrm>
            <a:off x="3203640" y="4076640"/>
            <a:ext cx="863640" cy="4320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50000">
                <a:srgbClr val="ccecff"/>
              </a:gs>
              <a:gs pos="100000">
                <a:srgbClr val="703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07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0" name="AutoShape 8">
            <a:hlinkClick r:id="rId3" action="ppaction://hlinksldjump"/>
          </p:cNvPr>
          <p:cNvSpPr/>
          <p:nvPr/>
        </p:nvSpPr>
        <p:spPr>
          <a:xfrm>
            <a:off x="5148360" y="4005360"/>
            <a:ext cx="863640" cy="503280"/>
          </a:xfrm>
          <a:custGeom>
            <a:avLst/>
            <a:gdLst>
              <a:gd name="textAreaLeft" fmla="*/ 32400 w 863640"/>
              <a:gd name="textAreaRight" fmla="*/ 831240 w 863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055" h="21600">
                <a:moveTo>
                  <a:pt x="0" y="0"/>
                </a:moveTo>
                <a:lnTo>
                  <a:pt x="37055" y="0"/>
                </a:lnTo>
                <a:lnTo>
                  <a:pt x="37055" y="21600"/>
                </a:lnTo>
                <a:lnTo>
                  <a:pt x="0" y="21600"/>
                </a:lnTo>
                <a:close/>
              </a:path>
              <a:path fill="lightenLess" w="37055" h="21600">
                <a:moveTo>
                  <a:pt x="0" y="0"/>
                </a:moveTo>
                <a:lnTo>
                  <a:pt x="37055" y="0"/>
                </a:lnTo>
                <a:lnTo>
                  <a:pt x="35655" y="1400"/>
                </a:lnTo>
                <a:lnTo>
                  <a:pt x="1400" y="1400"/>
                </a:lnTo>
                <a:close/>
              </a:path>
              <a:path fill="darken" w="37055" h="21600">
                <a:moveTo>
                  <a:pt x="37055" y="0"/>
                </a:moveTo>
                <a:lnTo>
                  <a:pt x="37055" y="21600"/>
                </a:lnTo>
                <a:lnTo>
                  <a:pt x="35655" y="20200"/>
                </a:lnTo>
                <a:lnTo>
                  <a:pt x="35655" y="1400"/>
                </a:lnTo>
                <a:close/>
              </a:path>
              <a:path fill="darkenLess" w="37055" h="21600">
                <a:moveTo>
                  <a:pt x="370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55" y="20200"/>
                </a:lnTo>
                <a:close/>
              </a:path>
              <a:path fill="lighten" w="370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50000">
                <a:srgbClr val="ccecff"/>
              </a:gs>
              <a:gs pos="100000">
                <a:srgbClr val="703d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1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91" name="WordArt 9"/>
          <p:cNvSpPr txBox="1"/>
          <p:nvPr/>
        </p:nvSpPr>
        <p:spPr>
          <a:xfrm>
            <a:off x="1258920" y="692280"/>
            <a:ext cx="61149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zultatul va fi afisat in kilometri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WordArt 4"/>
          <p:cNvSpPr txBox="1"/>
          <p:nvPr/>
        </p:nvSpPr>
        <p:spPr>
          <a:xfrm>
            <a:off x="1979640" y="1125360"/>
            <a:ext cx="5040360" cy="9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rec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WordArt 5"/>
          <p:cNvSpPr txBox="1"/>
          <p:nvPr/>
        </p:nvSpPr>
        <p:spPr>
          <a:xfrm>
            <a:off x="1362240" y="3070080"/>
            <a:ext cx="641952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tiai de la geografie sau ai calculat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AutoShape 6">
            <a:hlinkClick r:id="rId1" action="ppaction://hlinksldjump"/>
          </p:cNvPr>
          <p:cNvSpPr/>
          <p:nvPr/>
        </p:nvSpPr>
        <p:spPr>
          <a:xfrm>
            <a:off x="3492360" y="4724280"/>
            <a:ext cx="4175280" cy="649440"/>
          </a:xfrm>
          <a:custGeom>
            <a:avLst/>
            <a:gdLst>
              <a:gd name="textAreaLeft" fmla="*/ 41760 w 4175280"/>
              <a:gd name="textAreaRight" fmla="*/ 4133520 w 41752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138802" h="21600">
                <a:moveTo>
                  <a:pt x="0" y="0"/>
                </a:moveTo>
                <a:lnTo>
                  <a:pt x="138802" y="0"/>
                </a:lnTo>
                <a:lnTo>
                  <a:pt x="138802" y="21600"/>
                </a:lnTo>
                <a:lnTo>
                  <a:pt x="0" y="21600"/>
                </a:lnTo>
                <a:close/>
              </a:path>
              <a:path fill="lightenLess" w="138802" h="21600">
                <a:moveTo>
                  <a:pt x="0" y="0"/>
                </a:moveTo>
                <a:lnTo>
                  <a:pt x="138802" y="0"/>
                </a:lnTo>
                <a:lnTo>
                  <a:pt x="137403" y="1400"/>
                </a:lnTo>
                <a:lnTo>
                  <a:pt x="1400" y="1400"/>
                </a:lnTo>
                <a:close/>
              </a:path>
              <a:path fill="darken" w="138802" h="21600">
                <a:moveTo>
                  <a:pt x="138802" y="0"/>
                </a:moveTo>
                <a:lnTo>
                  <a:pt x="138802" y="21600"/>
                </a:lnTo>
                <a:lnTo>
                  <a:pt x="137403" y="20200"/>
                </a:lnTo>
                <a:lnTo>
                  <a:pt x="137403" y="1400"/>
                </a:lnTo>
                <a:close/>
              </a:path>
              <a:path fill="darkenLess" w="138802" h="21600">
                <a:moveTo>
                  <a:pt x="1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403" y="20200"/>
                </a:lnTo>
                <a:close/>
              </a:path>
              <a:path fill="lighten" w="1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Monotype Corsiva"/>
              </a:rPr>
              <a:t>URMATOAREA 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 trebuie sa incerci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WordArt 4"/>
          <p:cNvSpPr txBox="1"/>
          <p:nvPr/>
        </p:nvSpPr>
        <p:spPr>
          <a:xfrm>
            <a:off x="2124000" y="2695680"/>
            <a:ext cx="489600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corec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00" name="AutoShape 5">
            <a:hlinkClick r:id="rId1" action="ppaction://hlinksldjump"/>
          </p:cNvPr>
          <p:cNvSpPr/>
          <p:nvPr/>
        </p:nvSpPr>
        <p:spPr>
          <a:xfrm>
            <a:off x="4067280" y="4508640"/>
            <a:ext cx="3313080" cy="504720"/>
          </a:xfrm>
          <a:custGeom>
            <a:avLst/>
            <a:gdLst>
              <a:gd name="textAreaLeft" fmla="*/ 32400 w 3313080"/>
              <a:gd name="textAreaRight" fmla="*/ 3280680 w 3313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141701" h="21600">
                <a:moveTo>
                  <a:pt x="0" y="0"/>
                </a:moveTo>
                <a:lnTo>
                  <a:pt x="141701" y="0"/>
                </a:lnTo>
                <a:lnTo>
                  <a:pt x="141701" y="21600"/>
                </a:lnTo>
                <a:lnTo>
                  <a:pt x="0" y="21600"/>
                </a:lnTo>
                <a:close/>
              </a:path>
              <a:path fill="lightenLess" w="141701" h="21600">
                <a:moveTo>
                  <a:pt x="0" y="0"/>
                </a:moveTo>
                <a:lnTo>
                  <a:pt x="141701" y="0"/>
                </a:lnTo>
                <a:lnTo>
                  <a:pt x="140301" y="1400"/>
                </a:lnTo>
                <a:lnTo>
                  <a:pt x="1400" y="1400"/>
                </a:lnTo>
                <a:close/>
              </a:path>
              <a:path fill="darken" w="141701" h="21600">
                <a:moveTo>
                  <a:pt x="141701" y="0"/>
                </a:moveTo>
                <a:lnTo>
                  <a:pt x="141701" y="21600"/>
                </a:lnTo>
                <a:lnTo>
                  <a:pt x="140301" y="20200"/>
                </a:lnTo>
                <a:lnTo>
                  <a:pt x="140301" y="1400"/>
                </a:lnTo>
                <a:close/>
              </a:path>
              <a:path fill="darkenLess" w="141701" h="21600">
                <a:moveTo>
                  <a:pt x="1417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301" y="20200"/>
                </a:lnTo>
                <a:close/>
              </a:path>
              <a:path fill="lighten" w="1417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Monotype Corsiva"/>
              </a:rPr>
              <a:t>INAPOI LA 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8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tr-un parc s-au plantat 720 de flori.Din numarul total    sunt lalele,    sunt trandafiri iar restul sunt panselute.Cate panselute su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4"/>
              <p:cNvSpPr txBox="1"/>
              <p:nvPr/>
            </p:nvSpPr>
            <p:spPr>
              <a:xfrm>
                <a:off x="3348000" y="2133720"/>
                <a:ext cx="26676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5508720" y="2205000"/>
                <a:ext cx="4316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5" name="AutoShape 8">
            <a:hlinkClick r:id="rId1" action="ppaction://hlinksldjump"/>
          </p:cNvPr>
          <p:cNvSpPr/>
          <p:nvPr/>
        </p:nvSpPr>
        <p:spPr>
          <a:xfrm>
            <a:off x="1908000" y="3933720"/>
            <a:ext cx="935280" cy="790560"/>
          </a:xfrm>
          <a:custGeom>
            <a:avLst/>
            <a:gdLst>
              <a:gd name="textAreaLeft" fmla="*/ 51120 w 935280"/>
              <a:gd name="textAreaRight" fmla="*/ 884160 w 93528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52" h="21600">
                <a:moveTo>
                  <a:pt x="0" y="0"/>
                </a:moveTo>
                <a:lnTo>
                  <a:pt x="25552" y="0"/>
                </a:lnTo>
                <a:lnTo>
                  <a:pt x="25552" y="21600"/>
                </a:lnTo>
                <a:lnTo>
                  <a:pt x="0" y="21600"/>
                </a:lnTo>
                <a:close/>
              </a:path>
              <a:path fill="lightenLess" w="25552" h="21600">
                <a:moveTo>
                  <a:pt x="0" y="0"/>
                </a:moveTo>
                <a:lnTo>
                  <a:pt x="25552" y="0"/>
                </a:lnTo>
                <a:lnTo>
                  <a:pt x="24152" y="1400"/>
                </a:lnTo>
                <a:lnTo>
                  <a:pt x="1400" y="1400"/>
                </a:lnTo>
                <a:close/>
              </a:path>
              <a:path fill="darken" w="25552" h="21600">
                <a:moveTo>
                  <a:pt x="25552" y="0"/>
                </a:moveTo>
                <a:lnTo>
                  <a:pt x="25552" y="21600"/>
                </a:lnTo>
                <a:lnTo>
                  <a:pt x="24152" y="20200"/>
                </a:lnTo>
                <a:lnTo>
                  <a:pt x="24152" y="1400"/>
                </a:lnTo>
                <a:close/>
              </a:path>
              <a:path fill="darkenLess" w="25552" h="21600">
                <a:moveTo>
                  <a:pt x="25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52" y="20200"/>
                </a:lnTo>
                <a:close/>
              </a:path>
              <a:path fill="lighten" w="25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7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6" name="AutoShape 9">
            <a:hlinkClick r:id="rId2" action="ppaction://hlinksldjump"/>
          </p:cNvPr>
          <p:cNvSpPr/>
          <p:nvPr/>
        </p:nvSpPr>
        <p:spPr>
          <a:xfrm>
            <a:off x="3780000" y="3933720"/>
            <a:ext cx="936360" cy="790560"/>
          </a:xfrm>
          <a:custGeom>
            <a:avLst/>
            <a:gdLst>
              <a:gd name="textAreaLeft" fmla="*/ 51120 w 936360"/>
              <a:gd name="textAreaRight" fmla="*/ 885240 w 93636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82" h="21600">
                <a:moveTo>
                  <a:pt x="0" y="0"/>
                </a:moveTo>
                <a:lnTo>
                  <a:pt x="25582" y="0"/>
                </a:lnTo>
                <a:lnTo>
                  <a:pt x="25582" y="21600"/>
                </a:lnTo>
                <a:lnTo>
                  <a:pt x="0" y="21600"/>
                </a:lnTo>
                <a:close/>
              </a:path>
              <a:path fill="lightenLess" w="25582" h="21600">
                <a:moveTo>
                  <a:pt x="0" y="0"/>
                </a:moveTo>
                <a:lnTo>
                  <a:pt x="25582" y="0"/>
                </a:lnTo>
                <a:lnTo>
                  <a:pt x="24182" y="1400"/>
                </a:lnTo>
                <a:lnTo>
                  <a:pt x="1400" y="1400"/>
                </a:lnTo>
                <a:close/>
              </a:path>
              <a:path fill="darken" w="25582" h="21600">
                <a:moveTo>
                  <a:pt x="25582" y="0"/>
                </a:moveTo>
                <a:lnTo>
                  <a:pt x="25582" y="21600"/>
                </a:lnTo>
                <a:lnTo>
                  <a:pt x="24182" y="20200"/>
                </a:lnTo>
                <a:lnTo>
                  <a:pt x="24182" y="1400"/>
                </a:lnTo>
                <a:close/>
              </a:path>
              <a:path fill="darkenLess" w="25582" h="21600">
                <a:moveTo>
                  <a:pt x="25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82" y="20200"/>
                </a:lnTo>
                <a:close/>
              </a:path>
              <a:path fill="lighten" w="25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07" name="AutoShape 10">
            <a:hlinkClick r:id="rId3" action="ppaction://hlinksldjump"/>
          </p:cNvPr>
          <p:cNvSpPr/>
          <p:nvPr/>
        </p:nvSpPr>
        <p:spPr>
          <a:xfrm>
            <a:off x="5867280" y="393372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2484360" y="1557360"/>
            <a:ext cx="935280" cy="8636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5580000" y="3933720"/>
            <a:ext cx="1657440" cy="180036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2" name="WordArt 6"/>
          <p:cNvSpPr txBox="1"/>
          <p:nvPr/>
        </p:nvSpPr>
        <p:spPr>
          <a:xfrm rot="19564800">
            <a:off x="394920" y="2420640"/>
            <a:ext cx="8024760" cy="13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03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orect...felicitari!!!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03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13" name="WordArt 7"/>
          <p:cNvSpPr txBox="1"/>
          <p:nvPr/>
        </p:nvSpPr>
        <p:spPr>
          <a:xfrm>
            <a:off x="2124000" y="333360"/>
            <a:ext cx="39434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Urmatoarea problem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4" name="AutoShape 8">
            <a:hlinkClick r:id="rId1" action="ppaction://hlinksldjump"/>
          </p:cNvPr>
          <p:cNvSpPr/>
          <p:nvPr/>
        </p:nvSpPr>
        <p:spPr>
          <a:xfrm>
            <a:off x="611280" y="404640"/>
            <a:ext cx="1152360" cy="576360"/>
          </a:xfrm>
          <a:custGeom>
            <a:avLst/>
            <a:gdLst>
              <a:gd name="textAreaLeft" fmla="*/ 37080 w 1152360"/>
              <a:gd name="textAreaRight" fmla="*/ 1115280 w 115236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43173" h="21600">
                <a:moveTo>
                  <a:pt x="0" y="0"/>
                </a:moveTo>
                <a:lnTo>
                  <a:pt x="43173" y="0"/>
                </a:lnTo>
                <a:lnTo>
                  <a:pt x="43173" y="21600"/>
                </a:lnTo>
                <a:lnTo>
                  <a:pt x="0" y="21600"/>
                </a:lnTo>
                <a:close/>
              </a:path>
              <a:path fill="lightenLess" w="43173" h="21600">
                <a:moveTo>
                  <a:pt x="0" y="0"/>
                </a:moveTo>
                <a:lnTo>
                  <a:pt x="43173" y="0"/>
                </a:lnTo>
                <a:lnTo>
                  <a:pt x="41773" y="1400"/>
                </a:lnTo>
                <a:lnTo>
                  <a:pt x="1400" y="1400"/>
                </a:lnTo>
                <a:close/>
              </a:path>
              <a:path fill="darken" w="43173" h="21600">
                <a:moveTo>
                  <a:pt x="43173" y="0"/>
                </a:moveTo>
                <a:lnTo>
                  <a:pt x="43173" y="21600"/>
                </a:lnTo>
                <a:lnTo>
                  <a:pt x="41773" y="20200"/>
                </a:lnTo>
                <a:lnTo>
                  <a:pt x="41773" y="1400"/>
                </a:lnTo>
                <a:close/>
              </a:path>
              <a:path fill="darkenLess" w="43173" h="21600">
                <a:moveTo>
                  <a:pt x="43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3" y="20200"/>
                </a:lnTo>
                <a:close/>
              </a:path>
              <a:path fill="lighten" w="43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843280" y="188640"/>
            <a:ext cx="244944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erciti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9640" y="476280"/>
            <a:ext cx="590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Alege varianta corec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) Fractia     e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) Fractia     e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)Fractia       es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10"/>
              <p:cNvSpPr txBox="1"/>
              <p:nvPr/>
            </p:nvSpPr>
            <p:spPr>
              <a:xfrm>
                <a:off x="2627280" y="907920"/>
                <a:ext cx="432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AutoShape 12">
            <a:hlinkClick r:id="" action="ppaction://hlinkshowjump?jump=nextslide"/>
          </p:cNvPr>
          <p:cNvSpPr/>
          <p:nvPr/>
        </p:nvSpPr>
        <p:spPr>
          <a:xfrm>
            <a:off x="2700360" y="1557360"/>
            <a:ext cx="1871640" cy="57636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12" h="21600">
                <a:moveTo>
                  <a:pt x="0" y="0"/>
                </a:moveTo>
                <a:lnTo>
                  <a:pt x="70112" y="0"/>
                </a:lnTo>
                <a:lnTo>
                  <a:pt x="70112" y="21600"/>
                </a:lnTo>
                <a:lnTo>
                  <a:pt x="0" y="21600"/>
                </a:lnTo>
                <a:close/>
              </a:path>
              <a:path fill="lightenLess" w="70112" h="21600">
                <a:moveTo>
                  <a:pt x="0" y="0"/>
                </a:moveTo>
                <a:lnTo>
                  <a:pt x="70112" y="0"/>
                </a:lnTo>
                <a:lnTo>
                  <a:pt x="68712" y="1400"/>
                </a:lnTo>
                <a:lnTo>
                  <a:pt x="1400" y="1400"/>
                </a:lnTo>
                <a:close/>
              </a:path>
              <a:path fill="darken" w="70112" h="21600">
                <a:moveTo>
                  <a:pt x="70112" y="0"/>
                </a:moveTo>
                <a:lnTo>
                  <a:pt x="70112" y="21600"/>
                </a:lnTo>
                <a:lnTo>
                  <a:pt x="68712" y="20200"/>
                </a:lnTo>
                <a:lnTo>
                  <a:pt x="68712" y="1400"/>
                </a:lnTo>
                <a:close/>
              </a:path>
              <a:path fill="darkenLess" w="70112" h="21600">
                <a:moveTo>
                  <a:pt x="7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12" y="20200"/>
                </a:lnTo>
                <a:close/>
              </a:path>
              <a:path fill="lighten" w="7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0" name="AutoShape 13">
            <a:hlinkClick r:id="rId1" action="ppaction://hlinksldjump"/>
          </p:cNvPr>
          <p:cNvSpPr/>
          <p:nvPr/>
        </p:nvSpPr>
        <p:spPr>
          <a:xfrm>
            <a:off x="5292720" y="1557360"/>
            <a:ext cx="1871640" cy="57636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12" h="21600">
                <a:moveTo>
                  <a:pt x="0" y="0"/>
                </a:moveTo>
                <a:lnTo>
                  <a:pt x="70112" y="0"/>
                </a:lnTo>
                <a:lnTo>
                  <a:pt x="70112" y="21600"/>
                </a:lnTo>
                <a:lnTo>
                  <a:pt x="0" y="21600"/>
                </a:lnTo>
                <a:close/>
              </a:path>
              <a:path fill="lightenLess" w="70112" h="21600">
                <a:moveTo>
                  <a:pt x="0" y="0"/>
                </a:moveTo>
                <a:lnTo>
                  <a:pt x="70112" y="0"/>
                </a:lnTo>
                <a:lnTo>
                  <a:pt x="68712" y="1400"/>
                </a:lnTo>
                <a:lnTo>
                  <a:pt x="1400" y="1400"/>
                </a:lnTo>
                <a:close/>
              </a:path>
              <a:path fill="darken" w="70112" h="21600">
                <a:moveTo>
                  <a:pt x="70112" y="0"/>
                </a:moveTo>
                <a:lnTo>
                  <a:pt x="70112" y="21600"/>
                </a:lnTo>
                <a:lnTo>
                  <a:pt x="68712" y="20200"/>
                </a:lnTo>
                <a:lnTo>
                  <a:pt x="68712" y="1400"/>
                </a:lnTo>
                <a:close/>
              </a:path>
              <a:path fill="darkenLess" w="70112" h="21600">
                <a:moveTo>
                  <a:pt x="7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12" y="20200"/>
                </a:lnTo>
                <a:close/>
              </a:path>
              <a:path fill="lighten" w="7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RA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AutoShape 14">
            <a:hlinkClick r:id="rId2" action="ppaction://hlinksldjump"/>
          </p:cNvPr>
          <p:cNvSpPr/>
          <p:nvPr/>
        </p:nvSpPr>
        <p:spPr>
          <a:xfrm>
            <a:off x="250920" y="1557360"/>
            <a:ext cx="1873080" cy="576360"/>
          </a:xfrm>
          <a:custGeom>
            <a:avLst/>
            <a:gdLst>
              <a:gd name="textAreaLeft" fmla="*/ 37080 w 1873080"/>
              <a:gd name="textAreaRight" fmla="*/ 1836000 w 1873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66" h="21600">
                <a:moveTo>
                  <a:pt x="0" y="0"/>
                </a:moveTo>
                <a:lnTo>
                  <a:pt x="70166" y="0"/>
                </a:lnTo>
                <a:lnTo>
                  <a:pt x="70166" y="21600"/>
                </a:lnTo>
                <a:lnTo>
                  <a:pt x="0" y="21600"/>
                </a:lnTo>
                <a:close/>
              </a:path>
              <a:path fill="lightenLess" w="70166" h="21600">
                <a:moveTo>
                  <a:pt x="0" y="0"/>
                </a:moveTo>
                <a:lnTo>
                  <a:pt x="70166" y="0"/>
                </a:lnTo>
                <a:lnTo>
                  <a:pt x="68766" y="1400"/>
                </a:lnTo>
                <a:lnTo>
                  <a:pt x="1400" y="1400"/>
                </a:lnTo>
                <a:close/>
              </a:path>
              <a:path fill="darken" w="70166" h="21600">
                <a:moveTo>
                  <a:pt x="70166" y="0"/>
                </a:moveTo>
                <a:lnTo>
                  <a:pt x="70166" y="21600"/>
                </a:lnTo>
                <a:lnTo>
                  <a:pt x="68766" y="20200"/>
                </a:lnTo>
                <a:lnTo>
                  <a:pt x="68766" y="1400"/>
                </a:lnTo>
                <a:close/>
              </a:path>
              <a:path fill="darkenLess" w="70166" h="21600">
                <a:moveTo>
                  <a:pt x="7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66" y="20200"/>
                </a:lnTo>
                <a:close/>
              </a:path>
              <a:path fill="lighten" w="7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I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15"/>
              <p:cNvSpPr txBox="1"/>
              <p:nvPr/>
            </p:nvSpPr>
            <p:spPr>
              <a:xfrm>
                <a:off x="2484360" y="2492280"/>
                <a:ext cx="3762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AutoShape 17">
            <a:hlinkClick r:id="rId3" action="ppaction://hlinksldjump"/>
          </p:cNvPr>
          <p:cNvSpPr/>
          <p:nvPr/>
        </p:nvSpPr>
        <p:spPr>
          <a:xfrm>
            <a:off x="250920" y="3357720"/>
            <a:ext cx="1800000" cy="6476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12" h="21600">
                <a:moveTo>
                  <a:pt x="0" y="0"/>
                </a:moveTo>
                <a:lnTo>
                  <a:pt x="60012" y="0"/>
                </a:lnTo>
                <a:lnTo>
                  <a:pt x="60012" y="21600"/>
                </a:lnTo>
                <a:lnTo>
                  <a:pt x="0" y="21600"/>
                </a:lnTo>
                <a:close/>
              </a:path>
              <a:path fill="lightenLess" w="60012" h="21600">
                <a:moveTo>
                  <a:pt x="0" y="0"/>
                </a:moveTo>
                <a:lnTo>
                  <a:pt x="60012" y="0"/>
                </a:lnTo>
                <a:lnTo>
                  <a:pt x="58612" y="1400"/>
                </a:lnTo>
                <a:lnTo>
                  <a:pt x="1400" y="1400"/>
                </a:lnTo>
                <a:close/>
              </a:path>
              <a:path fill="darken" w="60012" h="21600">
                <a:moveTo>
                  <a:pt x="60012" y="0"/>
                </a:moveTo>
                <a:lnTo>
                  <a:pt x="60012" y="21600"/>
                </a:lnTo>
                <a:lnTo>
                  <a:pt x="58612" y="20200"/>
                </a:lnTo>
                <a:lnTo>
                  <a:pt x="58612" y="1400"/>
                </a:lnTo>
                <a:close/>
              </a:path>
              <a:path fill="darkenLess" w="60012" h="21600">
                <a:moveTo>
                  <a:pt x="6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12" y="20200"/>
                </a:lnTo>
                <a:close/>
              </a:path>
              <a:path fill="lighten" w="6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I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4" name="AutoShape 18">
            <a:hlinkClick r:id="rId4" action="ppaction://hlinksldjump"/>
          </p:cNvPr>
          <p:cNvSpPr/>
          <p:nvPr/>
        </p:nvSpPr>
        <p:spPr>
          <a:xfrm>
            <a:off x="2700360" y="328464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5" name="AutoShape 19">
            <a:hlinkClick r:id="rId5" action="ppaction://hlinksldjump"/>
          </p:cNvPr>
          <p:cNvSpPr/>
          <p:nvPr/>
        </p:nvSpPr>
        <p:spPr>
          <a:xfrm>
            <a:off x="5292720" y="3284640"/>
            <a:ext cx="1871640" cy="647640"/>
          </a:xfrm>
          <a:custGeom>
            <a:avLst/>
            <a:gdLst>
              <a:gd name="textAreaLeft" fmla="*/ 41760 w 1871640"/>
              <a:gd name="textAreaRight" fmla="*/ 1829880 w 1871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2400" h="21600">
                <a:moveTo>
                  <a:pt x="0" y="0"/>
                </a:moveTo>
                <a:lnTo>
                  <a:pt x="62400" y="0"/>
                </a:lnTo>
                <a:lnTo>
                  <a:pt x="62400" y="21600"/>
                </a:lnTo>
                <a:lnTo>
                  <a:pt x="0" y="21600"/>
                </a:lnTo>
                <a:close/>
              </a:path>
              <a:path fill="lightenLess" w="62400" h="21600">
                <a:moveTo>
                  <a:pt x="0" y="0"/>
                </a:moveTo>
                <a:lnTo>
                  <a:pt x="62400" y="0"/>
                </a:lnTo>
                <a:lnTo>
                  <a:pt x="61000" y="1400"/>
                </a:lnTo>
                <a:lnTo>
                  <a:pt x="1400" y="1400"/>
                </a:lnTo>
                <a:close/>
              </a:path>
              <a:path fill="darken" w="62400" h="21600">
                <a:moveTo>
                  <a:pt x="62400" y="0"/>
                </a:moveTo>
                <a:lnTo>
                  <a:pt x="62400" y="21600"/>
                </a:lnTo>
                <a:lnTo>
                  <a:pt x="61000" y="20200"/>
                </a:lnTo>
                <a:lnTo>
                  <a:pt x="61000" y="1400"/>
                </a:lnTo>
                <a:close/>
              </a:path>
              <a:path fill="darkenLess" w="62400" h="21600">
                <a:moveTo>
                  <a:pt x="6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000" y="20200"/>
                </a:lnTo>
                <a:close/>
              </a:path>
              <a:path fill="lighten" w="6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RA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0"/>
              <p:cNvSpPr txBox="1"/>
              <p:nvPr/>
            </p:nvSpPr>
            <p:spPr>
              <a:xfrm>
                <a:off x="2411280" y="4005360"/>
                <a:ext cx="43200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21">
            <a:hlinkClick r:id="rId6" action="ppaction://hlinksldjump"/>
          </p:cNvPr>
          <p:cNvSpPr/>
          <p:nvPr/>
        </p:nvSpPr>
        <p:spPr>
          <a:xfrm>
            <a:off x="324000" y="4869000"/>
            <a:ext cx="1800000" cy="6476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12" h="21600">
                <a:moveTo>
                  <a:pt x="0" y="0"/>
                </a:moveTo>
                <a:lnTo>
                  <a:pt x="60012" y="0"/>
                </a:lnTo>
                <a:lnTo>
                  <a:pt x="60012" y="21600"/>
                </a:lnTo>
                <a:lnTo>
                  <a:pt x="0" y="21600"/>
                </a:lnTo>
                <a:close/>
              </a:path>
              <a:path fill="lightenLess" w="60012" h="21600">
                <a:moveTo>
                  <a:pt x="0" y="0"/>
                </a:moveTo>
                <a:lnTo>
                  <a:pt x="60012" y="0"/>
                </a:lnTo>
                <a:lnTo>
                  <a:pt x="58612" y="1400"/>
                </a:lnTo>
                <a:lnTo>
                  <a:pt x="1400" y="1400"/>
                </a:lnTo>
                <a:close/>
              </a:path>
              <a:path fill="darken" w="60012" h="21600">
                <a:moveTo>
                  <a:pt x="60012" y="0"/>
                </a:moveTo>
                <a:lnTo>
                  <a:pt x="60012" y="21600"/>
                </a:lnTo>
                <a:lnTo>
                  <a:pt x="58612" y="20200"/>
                </a:lnTo>
                <a:lnTo>
                  <a:pt x="58612" y="1400"/>
                </a:lnTo>
                <a:close/>
              </a:path>
              <a:path fill="darkenLess" w="60012" h="21600">
                <a:moveTo>
                  <a:pt x="60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12" y="20200"/>
                </a:lnTo>
                <a:close/>
              </a:path>
              <a:path fill="lighten" w="60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I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AutoShape 22">
            <a:hlinkClick r:id="rId7" action="ppaction://hlinksldjump"/>
          </p:cNvPr>
          <p:cNvSpPr/>
          <p:nvPr/>
        </p:nvSpPr>
        <p:spPr>
          <a:xfrm>
            <a:off x="2700360" y="4941720"/>
            <a:ext cx="1871640" cy="57492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0288" h="21600">
                <a:moveTo>
                  <a:pt x="0" y="0"/>
                </a:moveTo>
                <a:lnTo>
                  <a:pt x="70288" y="0"/>
                </a:lnTo>
                <a:lnTo>
                  <a:pt x="70288" y="21600"/>
                </a:lnTo>
                <a:lnTo>
                  <a:pt x="0" y="21600"/>
                </a:lnTo>
                <a:close/>
              </a:path>
              <a:path fill="lightenLess" w="70288" h="21600">
                <a:moveTo>
                  <a:pt x="0" y="0"/>
                </a:moveTo>
                <a:lnTo>
                  <a:pt x="70288" y="0"/>
                </a:lnTo>
                <a:lnTo>
                  <a:pt x="68888" y="1400"/>
                </a:lnTo>
                <a:lnTo>
                  <a:pt x="1400" y="1400"/>
                </a:lnTo>
                <a:close/>
              </a:path>
              <a:path fill="darken" w="70288" h="21600">
                <a:moveTo>
                  <a:pt x="70288" y="0"/>
                </a:moveTo>
                <a:lnTo>
                  <a:pt x="70288" y="21600"/>
                </a:lnTo>
                <a:lnTo>
                  <a:pt x="68888" y="20200"/>
                </a:lnTo>
                <a:lnTo>
                  <a:pt x="68888" y="1400"/>
                </a:lnTo>
                <a:close/>
              </a:path>
              <a:path fill="darkenLess" w="70288" h="21600">
                <a:moveTo>
                  <a:pt x="7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888" y="20200"/>
                </a:lnTo>
                <a:close/>
              </a:path>
              <a:path fill="lighten" w="7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B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AutoShape 23">
            <a:hlinkClick r:id="rId8" action="ppaction://hlinksldjump"/>
          </p:cNvPr>
          <p:cNvSpPr/>
          <p:nvPr/>
        </p:nvSpPr>
        <p:spPr>
          <a:xfrm>
            <a:off x="5364000" y="4941720"/>
            <a:ext cx="1872000" cy="574920"/>
          </a:xfrm>
          <a:custGeom>
            <a:avLst/>
            <a:gdLst>
              <a:gd name="textAreaLeft" fmla="*/ 37080 w 1872000"/>
              <a:gd name="textAreaRight" fmla="*/ 1834920 w 187200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70301" h="21600">
                <a:moveTo>
                  <a:pt x="0" y="0"/>
                </a:moveTo>
                <a:lnTo>
                  <a:pt x="70301" y="0"/>
                </a:lnTo>
                <a:lnTo>
                  <a:pt x="70301" y="21600"/>
                </a:lnTo>
                <a:lnTo>
                  <a:pt x="0" y="21600"/>
                </a:lnTo>
                <a:close/>
              </a:path>
              <a:path fill="lightenLess" w="70301" h="21600">
                <a:moveTo>
                  <a:pt x="0" y="0"/>
                </a:moveTo>
                <a:lnTo>
                  <a:pt x="70301" y="0"/>
                </a:lnTo>
                <a:lnTo>
                  <a:pt x="68901" y="1400"/>
                </a:lnTo>
                <a:lnTo>
                  <a:pt x="1400" y="1400"/>
                </a:lnTo>
                <a:close/>
              </a:path>
              <a:path fill="darken" w="70301" h="21600">
                <a:moveTo>
                  <a:pt x="70301" y="0"/>
                </a:moveTo>
                <a:lnTo>
                  <a:pt x="70301" y="21600"/>
                </a:lnTo>
                <a:lnTo>
                  <a:pt x="68901" y="20200"/>
                </a:lnTo>
                <a:lnTo>
                  <a:pt x="68901" y="1400"/>
                </a:lnTo>
                <a:close/>
              </a:path>
              <a:path fill="darkenLess" w="70301" h="21600">
                <a:moveTo>
                  <a:pt x="703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901" y="20200"/>
                </a:lnTo>
                <a:close/>
              </a:path>
              <a:path fill="lighten" w="703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RAUNITAR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WordArt 4"/>
          <p:cNvSpPr txBox="1"/>
          <p:nvPr/>
        </p:nvSpPr>
        <p:spPr>
          <a:xfrm>
            <a:off x="3132000" y="3284640"/>
            <a:ext cx="3611880" cy="3573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Gresit...Mai inceraca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2987640" y="1916280"/>
            <a:ext cx="720720" cy="64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6012000" y="1916280"/>
            <a:ext cx="720720" cy="64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20" name="WordArt 7"/>
          <p:cNvSpPr txBox="1"/>
          <p:nvPr/>
        </p:nvSpPr>
        <p:spPr>
          <a:xfrm>
            <a:off x="826920" y="765000"/>
            <a:ext cx="46483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Inapoi la problem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1" name="AutoShape 8">
            <a:hlinkClick r:id="rId1" action="ppaction://hlinksldjump"/>
          </p:cNvPr>
          <p:cNvSpPr/>
          <p:nvPr/>
        </p:nvSpPr>
        <p:spPr>
          <a:xfrm>
            <a:off x="6084720" y="765000"/>
            <a:ext cx="935280" cy="648000"/>
          </a:xfrm>
          <a:custGeom>
            <a:avLst/>
            <a:gdLst>
              <a:gd name="textAreaLeft" fmla="*/ 41760 w 935280"/>
              <a:gd name="textAreaRight" fmla="*/ 893520 w 9352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31171" h="21600">
                <a:moveTo>
                  <a:pt x="0" y="0"/>
                </a:moveTo>
                <a:lnTo>
                  <a:pt x="31171" y="0"/>
                </a:lnTo>
                <a:lnTo>
                  <a:pt x="31171" y="21600"/>
                </a:lnTo>
                <a:lnTo>
                  <a:pt x="0" y="21600"/>
                </a:lnTo>
                <a:close/>
              </a:path>
              <a:path fill="lightenLess" w="31171" h="21600">
                <a:moveTo>
                  <a:pt x="0" y="0"/>
                </a:moveTo>
                <a:lnTo>
                  <a:pt x="31171" y="0"/>
                </a:lnTo>
                <a:lnTo>
                  <a:pt x="29771" y="1400"/>
                </a:lnTo>
                <a:lnTo>
                  <a:pt x="1400" y="1400"/>
                </a:lnTo>
                <a:close/>
              </a:path>
              <a:path fill="darken" w="31171" h="21600">
                <a:moveTo>
                  <a:pt x="31171" y="0"/>
                </a:moveTo>
                <a:lnTo>
                  <a:pt x="31171" y="21600"/>
                </a:lnTo>
                <a:lnTo>
                  <a:pt x="29771" y="20200"/>
                </a:lnTo>
                <a:lnTo>
                  <a:pt x="29771" y="1400"/>
                </a:lnTo>
                <a:close/>
              </a:path>
              <a:path fill="darkenLess" w="31171" h="21600">
                <a:moveTo>
                  <a:pt x="31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71" y="20200"/>
                </a:lnTo>
                <a:close/>
              </a:path>
              <a:path fill="lighten" w="31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flati fractia necunoscuta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4"/>
              <p:cNvSpPr txBox="1"/>
              <p:nvPr/>
            </p:nvSpPr>
            <p:spPr>
              <a:xfrm>
                <a:off x="684360" y="2205000"/>
                <a:ext cx="22557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Object 6"/>
              <p:cNvSpPr txBox="1"/>
              <p:nvPr/>
            </p:nvSpPr>
            <p:spPr>
              <a:xfrm>
                <a:off x="4572000" y="2205000"/>
                <a:ext cx="2311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8"/>
              <p:cNvSpPr txBox="1"/>
              <p:nvPr/>
            </p:nvSpPr>
            <p:spPr>
              <a:xfrm>
                <a:off x="900000" y="4076640"/>
                <a:ext cx="204624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Object 10"/>
              <p:cNvSpPr txBox="1"/>
              <p:nvPr/>
            </p:nvSpPr>
            <p:spPr>
              <a:xfrm>
                <a:off x="4572000" y="4076640"/>
                <a:ext cx="2448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7" name="AutoShape 12">
            <a:hlinkClick r:id="rId1" action="ppaction://hlinksldjump"/>
          </p:cNvPr>
          <p:cNvSpPr/>
          <p:nvPr/>
        </p:nvSpPr>
        <p:spPr>
          <a:xfrm>
            <a:off x="611280" y="321300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8" name="Object 13"/>
              <p:cNvSpPr txBox="1"/>
              <p:nvPr/>
            </p:nvSpPr>
            <p:spPr>
              <a:xfrm>
                <a:off x="684360" y="3213000"/>
                <a:ext cx="296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9" name="AutoShape 14">
            <a:hlinkClick r:id="rId2" action="ppaction://hlinksldjump"/>
          </p:cNvPr>
          <p:cNvSpPr/>
          <p:nvPr/>
        </p:nvSpPr>
        <p:spPr>
          <a:xfrm>
            <a:off x="1476360" y="3213000"/>
            <a:ext cx="431640" cy="5763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36">
                <a:moveTo>
                  <a:pt x="0" y="0"/>
                </a:moveTo>
                <a:lnTo>
                  <a:pt x="21600" y="0"/>
                </a:lnTo>
                <a:lnTo>
                  <a:pt x="21600" y="28836"/>
                </a:lnTo>
                <a:lnTo>
                  <a:pt x="0" y="28836"/>
                </a:lnTo>
                <a:close/>
              </a:path>
              <a:path fill="lightenLess" w="21600" h="28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36">
                <a:moveTo>
                  <a:pt x="21600" y="0"/>
                </a:moveTo>
                <a:lnTo>
                  <a:pt x="21600" y="28836"/>
                </a:lnTo>
                <a:lnTo>
                  <a:pt x="20200" y="27436"/>
                </a:lnTo>
                <a:lnTo>
                  <a:pt x="20200" y="1400"/>
                </a:lnTo>
                <a:close/>
              </a:path>
              <a:path fill="darkenLess" w="21600" h="28836">
                <a:moveTo>
                  <a:pt x="21600" y="28836"/>
                </a:moveTo>
                <a:lnTo>
                  <a:pt x="0" y="28836"/>
                </a:lnTo>
                <a:lnTo>
                  <a:pt x="1400" y="27436"/>
                </a:lnTo>
                <a:lnTo>
                  <a:pt x="20200" y="27436"/>
                </a:lnTo>
                <a:close/>
              </a:path>
              <a:path fill="lighten" w="21600" h="28836">
                <a:moveTo>
                  <a:pt x="0" y="28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3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15"/>
              <p:cNvSpPr txBox="1"/>
              <p:nvPr/>
            </p:nvSpPr>
            <p:spPr>
              <a:xfrm>
                <a:off x="1547640" y="3213000"/>
                <a:ext cx="2955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1" name="AutoShape 16">
            <a:hlinkClick r:id="rId3" action="ppaction://hlinksldjump"/>
          </p:cNvPr>
          <p:cNvSpPr/>
          <p:nvPr/>
        </p:nvSpPr>
        <p:spPr>
          <a:xfrm>
            <a:off x="2411280" y="3213000"/>
            <a:ext cx="432000" cy="57636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576360"/>
              <a:gd name="textAreaBottom" fmla="*/ 548640 h 576360"/>
            </a:gdLst>
            <a:ahLst/>
            <a:rect l="textAreaLeft" t="textAreaTop" r="textAreaRight" b="textAreaBottom"/>
            <a:pathLst>
              <a:path w="21600" h="28812">
                <a:moveTo>
                  <a:pt x="0" y="0"/>
                </a:moveTo>
                <a:lnTo>
                  <a:pt x="21600" y="0"/>
                </a:lnTo>
                <a:lnTo>
                  <a:pt x="21600" y="28812"/>
                </a:lnTo>
                <a:lnTo>
                  <a:pt x="0" y="28812"/>
                </a:lnTo>
                <a:close/>
              </a:path>
              <a:path fill="lightenLess" w="21600" h="288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12">
                <a:moveTo>
                  <a:pt x="21600" y="0"/>
                </a:moveTo>
                <a:lnTo>
                  <a:pt x="21600" y="28812"/>
                </a:lnTo>
                <a:lnTo>
                  <a:pt x="20200" y="27412"/>
                </a:lnTo>
                <a:lnTo>
                  <a:pt x="20200" y="1400"/>
                </a:lnTo>
                <a:close/>
              </a:path>
              <a:path fill="darkenLess" w="21600" h="28812">
                <a:moveTo>
                  <a:pt x="21600" y="28812"/>
                </a:moveTo>
                <a:lnTo>
                  <a:pt x="0" y="28812"/>
                </a:lnTo>
                <a:lnTo>
                  <a:pt x="1400" y="27412"/>
                </a:lnTo>
                <a:lnTo>
                  <a:pt x="20200" y="27412"/>
                </a:lnTo>
                <a:close/>
              </a:path>
              <a:path fill="lighten" w="21600" h="28812">
                <a:moveTo>
                  <a:pt x="0" y="288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1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Object 17"/>
              <p:cNvSpPr txBox="1"/>
              <p:nvPr/>
            </p:nvSpPr>
            <p:spPr>
              <a:xfrm>
                <a:off x="2484360" y="3213000"/>
                <a:ext cx="2872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3" name="AutoShape 18">
            <a:hlinkClick r:id="rId4" action="ppaction://hlinksldjump"/>
          </p:cNvPr>
          <p:cNvSpPr/>
          <p:nvPr/>
        </p:nvSpPr>
        <p:spPr>
          <a:xfrm>
            <a:off x="4572000" y="3141720"/>
            <a:ext cx="431640" cy="647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9"/>
              <p:cNvSpPr txBox="1"/>
              <p:nvPr/>
            </p:nvSpPr>
            <p:spPr>
              <a:xfrm>
                <a:off x="4602240" y="3141720"/>
                <a:ext cx="365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AutoShape 20">
            <a:hlinkClick r:id="rId5" action="ppaction://hlinksldjump"/>
          </p:cNvPr>
          <p:cNvSpPr/>
          <p:nvPr/>
        </p:nvSpPr>
        <p:spPr>
          <a:xfrm>
            <a:off x="5364000" y="3141720"/>
            <a:ext cx="432000" cy="64764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373">
                <a:moveTo>
                  <a:pt x="0" y="0"/>
                </a:moveTo>
                <a:lnTo>
                  <a:pt x="21600" y="0"/>
                </a:lnTo>
                <a:lnTo>
                  <a:pt x="21600" y="32373"/>
                </a:lnTo>
                <a:lnTo>
                  <a:pt x="0" y="32373"/>
                </a:lnTo>
                <a:close/>
              </a:path>
              <a:path fill="lightenLess" w="21600" h="323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3">
                <a:moveTo>
                  <a:pt x="21600" y="0"/>
                </a:moveTo>
                <a:lnTo>
                  <a:pt x="21600" y="32373"/>
                </a:lnTo>
                <a:lnTo>
                  <a:pt x="20200" y="30973"/>
                </a:lnTo>
                <a:lnTo>
                  <a:pt x="20200" y="1400"/>
                </a:lnTo>
                <a:close/>
              </a:path>
              <a:path fill="darkenLess" w="21600" h="32373">
                <a:moveTo>
                  <a:pt x="21600" y="32373"/>
                </a:moveTo>
                <a:lnTo>
                  <a:pt x="0" y="32373"/>
                </a:lnTo>
                <a:lnTo>
                  <a:pt x="1400" y="30973"/>
                </a:lnTo>
                <a:lnTo>
                  <a:pt x="20200" y="30973"/>
                </a:lnTo>
                <a:close/>
              </a:path>
              <a:path fill="lighten" w="21600" h="32373">
                <a:moveTo>
                  <a:pt x="0" y="32373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3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21"/>
              <p:cNvSpPr txBox="1"/>
              <p:nvPr/>
            </p:nvSpPr>
            <p:spPr>
              <a:xfrm>
                <a:off x="5364000" y="3141720"/>
                <a:ext cx="376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AutoShape 22">
            <a:hlinkClick r:id="rId6" action="ppaction://hlinksldjump"/>
          </p:cNvPr>
          <p:cNvSpPr/>
          <p:nvPr/>
        </p:nvSpPr>
        <p:spPr>
          <a:xfrm>
            <a:off x="6156360" y="3141720"/>
            <a:ext cx="431640" cy="647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647640"/>
              <a:gd name="textAreaBottom" fmla="*/ 619920 h 64764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0200" y="31000"/>
                </a:lnTo>
                <a:lnTo>
                  <a:pt x="20200" y="140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1400" y="31000"/>
                </a:lnTo>
                <a:lnTo>
                  <a:pt x="20200" y="310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23"/>
              <p:cNvSpPr txBox="1"/>
              <p:nvPr/>
            </p:nvSpPr>
            <p:spPr>
              <a:xfrm>
                <a:off x="6175440" y="3141720"/>
                <a:ext cx="35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9" name="AutoShape 24">
            <a:hlinkClick r:id="rId7" action="ppaction://hlinksldjump"/>
          </p:cNvPr>
          <p:cNvSpPr/>
          <p:nvPr/>
        </p:nvSpPr>
        <p:spPr>
          <a:xfrm>
            <a:off x="684360" y="494172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25"/>
              <p:cNvSpPr txBox="1"/>
              <p:nvPr/>
            </p:nvSpPr>
            <p:spPr>
              <a:xfrm>
                <a:off x="743040" y="4941720"/>
                <a:ext cx="3538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AutoShape 26">
            <a:hlinkClick r:id="rId8" action="ppaction://hlinksldjump"/>
          </p:cNvPr>
          <p:cNvSpPr/>
          <p:nvPr/>
        </p:nvSpPr>
        <p:spPr>
          <a:xfrm>
            <a:off x="1476360" y="4941720"/>
            <a:ext cx="431640" cy="719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82">
                <a:moveTo>
                  <a:pt x="0" y="0"/>
                </a:moveTo>
                <a:lnTo>
                  <a:pt x="21600" y="0"/>
                </a:lnTo>
                <a:lnTo>
                  <a:pt x="21600" y="35982"/>
                </a:lnTo>
                <a:lnTo>
                  <a:pt x="0" y="35982"/>
                </a:lnTo>
                <a:close/>
              </a:path>
              <a:path fill="lightenLess" w="21600" h="359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82">
                <a:moveTo>
                  <a:pt x="21600" y="0"/>
                </a:moveTo>
                <a:lnTo>
                  <a:pt x="21600" y="35982"/>
                </a:lnTo>
                <a:lnTo>
                  <a:pt x="20200" y="34582"/>
                </a:lnTo>
                <a:lnTo>
                  <a:pt x="20200" y="1400"/>
                </a:lnTo>
                <a:close/>
              </a:path>
              <a:path fill="darkenLess" w="21600" h="35982">
                <a:moveTo>
                  <a:pt x="21600" y="35982"/>
                </a:moveTo>
                <a:lnTo>
                  <a:pt x="0" y="35982"/>
                </a:lnTo>
                <a:lnTo>
                  <a:pt x="1400" y="34582"/>
                </a:lnTo>
                <a:lnTo>
                  <a:pt x="20200" y="34582"/>
                </a:lnTo>
                <a:close/>
              </a:path>
              <a:path fill="lighten" w="21600" h="35982">
                <a:moveTo>
                  <a:pt x="0" y="3598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8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27"/>
              <p:cNvSpPr txBox="1"/>
              <p:nvPr/>
            </p:nvSpPr>
            <p:spPr>
              <a:xfrm>
                <a:off x="1476360" y="4941720"/>
                <a:ext cx="3571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3" name="AutoShape 28">
            <a:hlinkClick r:id="rId9" action="ppaction://hlinksldjump"/>
          </p:cNvPr>
          <p:cNvSpPr/>
          <p:nvPr/>
        </p:nvSpPr>
        <p:spPr>
          <a:xfrm>
            <a:off x="2411280" y="494172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29"/>
              <p:cNvSpPr txBox="1"/>
              <p:nvPr/>
            </p:nvSpPr>
            <p:spPr>
              <a:xfrm>
                <a:off x="2430360" y="4941720"/>
                <a:ext cx="3366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AutoShape 30">
            <a:hlinkClick r:id="rId10" action="ppaction://hlinksldjump"/>
          </p:cNvPr>
          <p:cNvSpPr/>
          <p:nvPr/>
        </p:nvSpPr>
        <p:spPr>
          <a:xfrm>
            <a:off x="4572000" y="4941720"/>
            <a:ext cx="431640" cy="720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720720"/>
              <a:gd name="textAreaBottom" fmla="*/ 693000 h 720720"/>
            </a:gdLst>
            <a:ahLst/>
            <a:rect l="textAreaLeft" t="textAreaTop" r="textAreaRight" b="textAreaBottom"/>
            <a:pathLst>
              <a:path w="21600" h="36054">
                <a:moveTo>
                  <a:pt x="0" y="0"/>
                </a:moveTo>
                <a:lnTo>
                  <a:pt x="21600" y="0"/>
                </a:lnTo>
                <a:lnTo>
                  <a:pt x="21600" y="36054"/>
                </a:lnTo>
                <a:lnTo>
                  <a:pt x="0" y="36054"/>
                </a:lnTo>
                <a:close/>
              </a:path>
              <a:path fill="lightenLess" w="21600" h="360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54">
                <a:moveTo>
                  <a:pt x="21600" y="0"/>
                </a:moveTo>
                <a:lnTo>
                  <a:pt x="21600" y="36054"/>
                </a:lnTo>
                <a:lnTo>
                  <a:pt x="20200" y="34654"/>
                </a:lnTo>
                <a:lnTo>
                  <a:pt x="20200" y="1400"/>
                </a:lnTo>
                <a:close/>
              </a:path>
              <a:path fill="darkenLess" w="21600" h="36054">
                <a:moveTo>
                  <a:pt x="21600" y="36054"/>
                </a:moveTo>
                <a:lnTo>
                  <a:pt x="0" y="36054"/>
                </a:lnTo>
                <a:lnTo>
                  <a:pt x="1400" y="34654"/>
                </a:lnTo>
                <a:lnTo>
                  <a:pt x="20200" y="34654"/>
                </a:lnTo>
                <a:close/>
              </a:path>
              <a:path fill="lighten" w="21600" h="36054">
                <a:moveTo>
                  <a:pt x="0" y="36054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54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31"/>
              <p:cNvSpPr txBox="1"/>
              <p:nvPr/>
            </p:nvSpPr>
            <p:spPr>
              <a:xfrm>
                <a:off x="4572000" y="4941720"/>
                <a:ext cx="3762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7" name="AutoShape 32">
            <a:hlinkClick r:id="rId11" action="ppaction://hlinksldjump"/>
          </p:cNvPr>
          <p:cNvSpPr/>
          <p:nvPr/>
        </p:nvSpPr>
        <p:spPr>
          <a:xfrm>
            <a:off x="5364000" y="494172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Object 33"/>
              <p:cNvSpPr txBox="1"/>
              <p:nvPr/>
            </p:nvSpPr>
            <p:spPr>
              <a:xfrm>
                <a:off x="5351400" y="4941720"/>
                <a:ext cx="41616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9" name="AutoShape 34">
            <a:hlinkClick r:id="rId12" action="ppaction://hlinksldjump"/>
          </p:cNvPr>
          <p:cNvSpPr/>
          <p:nvPr/>
        </p:nvSpPr>
        <p:spPr>
          <a:xfrm>
            <a:off x="6227640" y="4941720"/>
            <a:ext cx="432000" cy="719280"/>
          </a:xfrm>
          <a:custGeom>
            <a:avLst/>
            <a:gdLst>
              <a:gd name="textAreaLeft" fmla="*/ 27720 w 432000"/>
              <a:gd name="textAreaRight" fmla="*/ 404280 w 432000"/>
              <a:gd name="textAreaTop" fmla="*/ 27720 h 719280"/>
              <a:gd name="textAreaBottom" fmla="*/ 691560 h 719280"/>
            </a:gdLst>
            <a:ahLst/>
            <a:rect l="textAreaLeft" t="textAreaTop" r="textAreaRight" b="textAreaBottom"/>
            <a:pathLst>
              <a:path w="21600" h="35952">
                <a:moveTo>
                  <a:pt x="0" y="0"/>
                </a:moveTo>
                <a:lnTo>
                  <a:pt x="21600" y="0"/>
                </a:lnTo>
                <a:lnTo>
                  <a:pt x="21600" y="35952"/>
                </a:lnTo>
                <a:lnTo>
                  <a:pt x="0" y="35952"/>
                </a:lnTo>
                <a:close/>
              </a:path>
              <a:path fill="lightenLess" w="21600" h="359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52">
                <a:moveTo>
                  <a:pt x="21600" y="0"/>
                </a:moveTo>
                <a:lnTo>
                  <a:pt x="21600" y="35952"/>
                </a:lnTo>
                <a:lnTo>
                  <a:pt x="20200" y="34552"/>
                </a:lnTo>
                <a:lnTo>
                  <a:pt x="20200" y="1400"/>
                </a:lnTo>
                <a:close/>
              </a:path>
              <a:path fill="darkenLess" w="21600" h="35952">
                <a:moveTo>
                  <a:pt x="21600" y="35952"/>
                </a:moveTo>
                <a:lnTo>
                  <a:pt x="0" y="35952"/>
                </a:lnTo>
                <a:lnTo>
                  <a:pt x="1400" y="34552"/>
                </a:lnTo>
                <a:lnTo>
                  <a:pt x="20200" y="34552"/>
                </a:lnTo>
                <a:close/>
              </a:path>
              <a:path fill="lighten" w="21600" h="35952">
                <a:moveTo>
                  <a:pt x="0" y="359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52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Object 35"/>
              <p:cNvSpPr txBox="1"/>
              <p:nvPr/>
            </p:nvSpPr>
            <p:spPr>
              <a:xfrm>
                <a:off x="6276960" y="4941720"/>
                <a:ext cx="333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1" name="WordArt 37"/>
          <p:cNvSpPr txBox="1"/>
          <p:nvPr/>
        </p:nvSpPr>
        <p:spPr>
          <a:xfrm>
            <a:off x="5724360" y="5805360"/>
            <a:ext cx="26863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APARE MANUT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V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U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T 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P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           </a:t>
            </a: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Inapoi la proble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766c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Urmatoarea probl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3564000" y="3645000"/>
            <a:ext cx="2665440" cy="24480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AutoShape 5">
            <a:hlinkClick r:id="rId1" action="ppaction://hlinksldjump"/>
          </p:cNvPr>
          <p:cNvSpPr/>
          <p:nvPr/>
        </p:nvSpPr>
        <p:spPr>
          <a:xfrm>
            <a:off x="7164360" y="5734080"/>
            <a:ext cx="1224000" cy="790560"/>
          </a:xfrm>
          <a:custGeom>
            <a:avLst/>
            <a:gdLst>
              <a:gd name="textAreaLeft" fmla="*/ 51120 w 1224000"/>
              <a:gd name="textAreaRight" fmla="*/ 1172880 w 122400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33437" h="21600">
                <a:moveTo>
                  <a:pt x="0" y="0"/>
                </a:moveTo>
                <a:lnTo>
                  <a:pt x="33437" y="0"/>
                </a:lnTo>
                <a:lnTo>
                  <a:pt x="33437" y="21600"/>
                </a:lnTo>
                <a:lnTo>
                  <a:pt x="0" y="21600"/>
                </a:lnTo>
                <a:close/>
              </a:path>
              <a:path fill="lightenLess" w="33437" h="21600">
                <a:moveTo>
                  <a:pt x="0" y="0"/>
                </a:moveTo>
                <a:lnTo>
                  <a:pt x="33437" y="0"/>
                </a:lnTo>
                <a:lnTo>
                  <a:pt x="32037" y="1400"/>
                </a:lnTo>
                <a:lnTo>
                  <a:pt x="1400" y="1400"/>
                </a:lnTo>
                <a:close/>
              </a:path>
              <a:path fill="darken" w="33437" h="21600">
                <a:moveTo>
                  <a:pt x="33437" y="0"/>
                </a:moveTo>
                <a:lnTo>
                  <a:pt x="33437" y="21600"/>
                </a:lnTo>
                <a:lnTo>
                  <a:pt x="32037" y="20200"/>
                </a:lnTo>
                <a:lnTo>
                  <a:pt x="32037" y="1400"/>
                </a:lnTo>
                <a:close/>
              </a:path>
              <a:path fill="darkenLess" w="33437" h="21600">
                <a:moveTo>
                  <a:pt x="334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037" y="20200"/>
                </a:lnTo>
                <a:close/>
              </a:path>
              <a:path fill="lighten" w="334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437" h="21600">
                <a:moveTo>
                  <a:pt x="9712" y="3794"/>
                </a:moveTo>
                <a:lnTo>
                  <a:pt x="23725" y="10800"/>
                </a:lnTo>
                <a:lnTo>
                  <a:pt x="9712" y="17806"/>
                </a:lnTo>
                <a:close/>
              </a:path>
            </a:pathLst>
          </a:cu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AutoShape 6">
            <a:hlinkClick r:id="rId2" action="ppaction://hlinksldjump"/>
          </p:cNvPr>
          <p:cNvSpPr/>
          <p:nvPr/>
        </p:nvSpPr>
        <p:spPr>
          <a:xfrm>
            <a:off x="755640" y="292428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5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5" y="20200"/>
                </a:lnTo>
                <a:lnTo>
                  <a:pt x="28805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5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05" h="21600">
                <a:moveTo>
                  <a:pt x="8096" y="10800"/>
                </a:moveTo>
                <a:lnTo>
                  <a:pt x="22109" y="3794"/>
                </a:lnTo>
                <a:lnTo>
                  <a:pt x="22109" y="1780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ORE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324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G</a:t>
            </a:r>
            <a:r>
              <a:rPr b="0" lang="en-US" sz="3200" spc="-1" strike="noStrike">
                <a:solidFill>
                  <a:srgbClr val="663300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T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ff99ff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I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N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E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US" sz="3200" spc="-1" strike="noStrike">
                <a:solidFill>
                  <a:srgbClr val="cc0099"/>
                </a:solidFill>
                <a:latin typeface="Comic Sans MS"/>
              </a:rPr>
              <a:t>R</a:t>
            </a:r>
            <a:r>
              <a:rPr b="0" lang="en-US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f66"/>
                </a:solidFill>
                <a:latin typeface="Comic Sans MS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apoi la problem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AutoShape 4">
            <a:hlinkClick r:id="rId1" action="ppaction://hlinksldjump"/>
          </p:cNvPr>
          <p:cNvSpPr/>
          <p:nvPr/>
        </p:nvSpPr>
        <p:spPr>
          <a:xfrm>
            <a:off x="6227640" y="4581360"/>
            <a:ext cx="1297080" cy="648000"/>
          </a:xfrm>
          <a:custGeom>
            <a:avLst/>
            <a:gdLst>
              <a:gd name="textAreaLeft" fmla="*/ 41760 w 1297080"/>
              <a:gd name="textAreaRight" fmla="*/ 1255320 w 129708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43224" h="21600">
                <a:moveTo>
                  <a:pt x="0" y="0"/>
                </a:moveTo>
                <a:lnTo>
                  <a:pt x="43224" y="0"/>
                </a:lnTo>
                <a:lnTo>
                  <a:pt x="43224" y="21600"/>
                </a:lnTo>
                <a:lnTo>
                  <a:pt x="0" y="21600"/>
                </a:lnTo>
                <a:close/>
              </a:path>
              <a:path fill="lightenLess" w="43224" h="21600">
                <a:moveTo>
                  <a:pt x="0" y="0"/>
                </a:moveTo>
                <a:lnTo>
                  <a:pt x="43224" y="0"/>
                </a:lnTo>
                <a:lnTo>
                  <a:pt x="41824" y="1400"/>
                </a:lnTo>
                <a:lnTo>
                  <a:pt x="1400" y="1400"/>
                </a:lnTo>
                <a:close/>
              </a:path>
              <a:path fill="darken" w="43224" h="21600">
                <a:moveTo>
                  <a:pt x="43224" y="0"/>
                </a:moveTo>
                <a:lnTo>
                  <a:pt x="43224" y="21600"/>
                </a:lnTo>
                <a:lnTo>
                  <a:pt x="41824" y="20200"/>
                </a:lnTo>
                <a:lnTo>
                  <a:pt x="41824" y="1400"/>
                </a:lnTo>
                <a:close/>
              </a:path>
              <a:path fill="darkenLess" w="43224" h="21600">
                <a:moveTo>
                  <a:pt x="432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4" y="20200"/>
                </a:lnTo>
                <a:close/>
              </a:path>
              <a:path fill="lighten" w="432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4" h="21600">
                <a:moveTo>
                  <a:pt x="14606" y="10800"/>
                </a:moveTo>
                <a:lnTo>
                  <a:pt x="28618" y="3794"/>
                </a:lnTo>
                <a:lnTo>
                  <a:pt x="28618" y="1780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870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) Afla     din suma numerelor 420 si 26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19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) Afla    din diferenta numerelor 550 si 34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) Afla    din produsul numerelor 60 si 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) Afla    din catul numerelor 480 si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Object 4"/>
              <p:cNvSpPr txBox="1"/>
              <p:nvPr/>
            </p:nvSpPr>
            <p:spPr>
              <a:xfrm>
                <a:off x="2268360" y="549360"/>
                <a:ext cx="279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Object 6"/>
              <p:cNvSpPr txBox="1"/>
              <p:nvPr/>
            </p:nvSpPr>
            <p:spPr>
              <a:xfrm>
                <a:off x="2111400" y="1700280"/>
                <a:ext cx="2808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Object 8"/>
              <p:cNvSpPr txBox="1"/>
              <p:nvPr/>
            </p:nvSpPr>
            <p:spPr>
              <a:xfrm>
                <a:off x="2050920" y="2852640"/>
                <a:ext cx="279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9"/>
              <p:cNvSpPr txBox="1"/>
              <p:nvPr/>
            </p:nvSpPr>
            <p:spPr>
              <a:xfrm>
                <a:off x="2124000" y="3860640"/>
                <a:ext cx="319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6" name="AutoShape 10">
            <a:hlinkClick r:id="rId1" action="ppaction://hlinksldjump"/>
          </p:cNvPr>
          <p:cNvSpPr/>
          <p:nvPr/>
        </p:nvSpPr>
        <p:spPr>
          <a:xfrm>
            <a:off x="1258920" y="1341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5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7" name="AutoShape 11">
            <a:hlinkClick r:id="rId2" action="ppaction://hlinksldjump"/>
          </p:cNvPr>
          <p:cNvSpPr/>
          <p:nvPr/>
        </p:nvSpPr>
        <p:spPr>
          <a:xfrm>
            <a:off x="2700360" y="1341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6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8" name="AutoShape 12">
            <a:hlinkClick r:id="rId3" action="ppaction://hlinksldjump"/>
          </p:cNvPr>
          <p:cNvSpPr/>
          <p:nvPr/>
        </p:nvSpPr>
        <p:spPr>
          <a:xfrm>
            <a:off x="4211640" y="1341360"/>
            <a:ext cx="720720" cy="28584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54421" h="21600">
                <a:moveTo>
                  <a:pt x="0" y="0"/>
                </a:moveTo>
                <a:lnTo>
                  <a:pt x="54421" y="0"/>
                </a:lnTo>
                <a:lnTo>
                  <a:pt x="54421" y="21600"/>
                </a:lnTo>
                <a:lnTo>
                  <a:pt x="0" y="21600"/>
                </a:lnTo>
                <a:close/>
              </a:path>
              <a:path fill="lightenLess" w="54421" h="21600">
                <a:moveTo>
                  <a:pt x="0" y="0"/>
                </a:moveTo>
                <a:lnTo>
                  <a:pt x="54421" y="0"/>
                </a:lnTo>
                <a:lnTo>
                  <a:pt x="53021" y="1400"/>
                </a:lnTo>
                <a:lnTo>
                  <a:pt x="1400" y="1400"/>
                </a:lnTo>
                <a:close/>
              </a:path>
              <a:path fill="darken" w="54421" h="21600">
                <a:moveTo>
                  <a:pt x="54421" y="0"/>
                </a:moveTo>
                <a:lnTo>
                  <a:pt x="54421" y="21600"/>
                </a:lnTo>
                <a:lnTo>
                  <a:pt x="53021" y="20200"/>
                </a:lnTo>
                <a:lnTo>
                  <a:pt x="53021" y="1400"/>
                </a:lnTo>
                <a:close/>
              </a:path>
              <a:path fill="darkenLess" w="54421" h="21600">
                <a:moveTo>
                  <a:pt x="544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021" y="20200"/>
                </a:lnTo>
                <a:close/>
              </a:path>
              <a:path fill="lighten" w="544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9" name="AutoShape 13">
            <a:hlinkClick r:id="rId4" action="ppaction://hlinksldjump"/>
          </p:cNvPr>
          <p:cNvSpPr/>
          <p:nvPr/>
        </p:nvSpPr>
        <p:spPr>
          <a:xfrm>
            <a:off x="1258920" y="242100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0" name="AutoShape 14">
            <a:hlinkClick r:id="rId5" action="ppaction://hlinksldjump"/>
          </p:cNvPr>
          <p:cNvSpPr/>
          <p:nvPr/>
        </p:nvSpPr>
        <p:spPr>
          <a:xfrm>
            <a:off x="2700360" y="242100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1" name="AutoShape 15">
            <a:hlinkClick r:id="rId6" action="ppaction://hlinksldjump"/>
          </p:cNvPr>
          <p:cNvSpPr/>
          <p:nvPr/>
        </p:nvSpPr>
        <p:spPr>
          <a:xfrm>
            <a:off x="4211640" y="2421000"/>
            <a:ext cx="792000" cy="287280"/>
          </a:xfrm>
          <a:custGeom>
            <a:avLst/>
            <a:gdLst>
              <a:gd name="textAreaLeft" fmla="*/ 18360 w 792000"/>
              <a:gd name="textAreaRight" fmla="*/ 773640 w 792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9501" h="21600">
                <a:moveTo>
                  <a:pt x="0" y="0"/>
                </a:moveTo>
                <a:lnTo>
                  <a:pt x="59501" y="0"/>
                </a:lnTo>
                <a:lnTo>
                  <a:pt x="59501" y="21600"/>
                </a:lnTo>
                <a:lnTo>
                  <a:pt x="0" y="21600"/>
                </a:lnTo>
                <a:close/>
              </a:path>
              <a:path fill="lightenLess" w="59501" h="21600">
                <a:moveTo>
                  <a:pt x="0" y="0"/>
                </a:moveTo>
                <a:lnTo>
                  <a:pt x="59501" y="0"/>
                </a:lnTo>
                <a:lnTo>
                  <a:pt x="58101" y="1400"/>
                </a:lnTo>
                <a:lnTo>
                  <a:pt x="1400" y="1400"/>
                </a:lnTo>
                <a:close/>
              </a:path>
              <a:path fill="darken" w="59501" h="21600">
                <a:moveTo>
                  <a:pt x="59501" y="0"/>
                </a:moveTo>
                <a:lnTo>
                  <a:pt x="59501" y="21600"/>
                </a:lnTo>
                <a:lnTo>
                  <a:pt x="58101" y="20200"/>
                </a:lnTo>
                <a:lnTo>
                  <a:pt x="58101" y="1400"/>
                </a:lnTo>
                <a:close/>
              </a:path>
              <a:path fill="darkenLess" w="59501" h="21600">
                <a:moveTo>
                  <a:pt x="595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101" y="20200"/>
                </a:lnTo>
                <a:close/>
              </a:path>
              <a:path fill="lighten" w="595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2" name="AutoShape 16"/>
          <p:cNvSpPr/>
          <p:nvPr/>
        </p:nvSpPr>
        <p:spPr>
          <a:xfrm>
            <a:off x="1258920" y="3573360"/>
            <a:ext cx="720720" cy="287280"/>
          </a:xfrm>
          <a:custGeom>
            <a:avLst/>
            <a:gdLst>
              <a:gd name="textAreaLeft" fmla="*/ 18360 w 720720"/>
              <a:gd name="textAreaRight" fmla="*/ 702360 w 720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149" h="21600">
                <a:moveTo>
                  <a:pt x="0" y="0"/>
                </a:moveTo>
                <a:lnTo>
                  <a:pt x="54149" y="0"/>
                </a:lnTo>
                <a:lnTo>
                  <a:pt x="54149" y="21600"/>
                </a:lnTo>
                <a:lnTo>
                  <a:pt x="0" y="21600"/>
                </a:lnTo>
                <a:close/>
              </a:path>
              <a:path fill="lightenLess" w="54149" h="21600">
                <a:moveTo>
                  <a:pt x="0" y="0"/>
                </a:moveTo>
                <a:lnTo>
                  <a:pt x="54149" y="0"/>
                </a:lnTo>
                <a:lnTo>
                  <a:pt x="52749" y="1400"/>
                </a:lnTo>
                <a:lnTo>
                  <a:pt x="1400" y="1400"/>
                </a:lnTo>
                <a:close/>
              </a:path>
              <a:path fill="darken" w="54149" h="21600">
                <a:moveTo>
                  <a:pt x="54149" y="0"/>
                </a:moveTo>
                <a:lnTo>
                  <a:pt x="54149" y="21600"/>
                </a:lnTo>
                <a:lnTo>
                  <a:pt x="52749" y="20200"/>
                </a:lnTo>
                <a:lnTo>
                  <a:pt x="52749" y="1400"/>
                </a:lnTo>
                <a:close/>
              </a:path>
              <a:path fill="darkenLess" w="54149" h="21600">
                <a:moveTo>
                  <a:pt x="54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749" y="20200"/>
                </a:lnTo>
                <a:close/>
              </a:path>
              <a:path fill="lighten" w="54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3" name="AutoShape 17"/>
          <p:cNvSpPr/>
          <p:nvPr/>
        </p:nvSpPr>
        <p:spPr>
          <a:xfrm>
            <a:off x="2700360" y="3573360"/>
            <a:ext cx="719280" cy="287280"/>
          </a:xfrm>
          <a:custGeom>
            <a:avLst/>
            <a:gdLst>
              <a:gd name="textAreaLeft" fmla="*/ 18360 w 719280"/>
              <a:gd name="textAreaRight" fmla="*/ 700920 w 719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54041" h="21600">
                <a:moveTo>
                  <a:pt x="0" y="0"/>
                </a:moveTo>
                <a:lnTo>
                  <a:pt x="54041" y="0"/>
                </a:lnTo>
                <a:lnTo>
                  <a:pt x="54041" y="21600"/>
                </a:lnTo>
                <a:lnTo>
                  <a:pt x="0" y="21600"/>
                </a:lnTo>
                <a:close/>
              </a:path>
              <a:path fill="lightenLess" w="54041" h="21600">
                <a:moveTo>
                  <a:pt x="0" y="0"/>
                </a:moveTo>
                <a:lnTo>
                  <a:pt x="54041" y="0"/>
                </a:lnTo>
                <a:lnTo>
                  <a:pt x="52641" y="1400"/>
                </a:lnTo>
                <a:lnTo>
                  <a:pt x="1400" y="1400"/>
                </a:lnTo>
                <a:close/>
              </a:path>
              <a:path fill="darken" w="54041" h="21600">
                <a:moveTo>
                  <a:pt x="54041" y="0"/>
                </a:moveTo>
                <a:lnTo>
                  <a:pt x="54041" y="21600"/>
                </a:lnTo>
                <a:lnTo>
                  <a:pt x="52641" y="20200"/>
                </a:lnTo>
                <a:lnTo>
                  <a:pt x="52641" y="1400"/>
                </a:lnTo>
                <a:close/>
              </a:path>
              <a:path fill="darkenLess" w="54041" h="21600">
                <a:moveTo>
                  <a:pt x="540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41" y="20200"/>
                </a:lnTo>
                <a:close/>
              </a:path>
              <a:path fill="lighten" w="540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38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4" name="AutoShape 18"/>
          <p:cNvSpPr/>
          <p:nvPr/>
        </p:nvSpPr>
        <p:spPr>
          <a:xfrm>
            <a:off x="4284720" y="3500280"/>
            <a:ext cx="647640" cy="289080"/>
          </a:xfrm>
          <a:custGeom>
            <a:avLst/>
            <a:gdLst>
              <a:gd name="textAreaLeft" fmla="*/ 18720 w 647640"/>
              <a:gd name="textAreaRight" fmla="*/ 628920 w 64764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8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8" y="20200"/>
                </a:lnTo>
                <a:lnTo>
                  <a:pt x="46958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8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AutoShape 19"/>
          <p:cNvSpPr/>
          <p:nvPr/>
        </p:nvSpPr>
        <p:spPr>
          <a:xfrm>
            <a:off x="1258920" y="4653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AutoShape 20"/>
          <p:cNvSpPr/>
          <p:nvPr/>
        </p:nvSpPr>
        <p:spPr>
          <a:xfrm>
            <a:off x="2700360" y="465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8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AutoShape 21"/>
          <p:cNvSpPr/>
          <p:nvPr/>
        </p:nvSpPr>
        <p:spPr>
          <a:xfrm>
            <a:off x="4356000" y="4581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108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2349360"/>
            <a:ext cx="769608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apoi la exerciti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ca ai terminat apasa aic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WordArt 4"/>
          <p:cNvSpPr txBox="1"/>
          <p:nvPr/>
        </p:nvSpPr>
        <p:spPr>
          <a:xfrm>
            <a:off x="1979640" y="836640"/>
            <a:ext cx="4897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OREC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1" name="WordArt 5"/>
          <p:cNvSpPr txBox="1"/>
          <p:nvPr/>
        </p:nvSpPr>
        <p:spPr>
          <a:xfrm>
            <a:off x="2484360" y="2708280"/>
            <a:ext cx="4680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ELICITAR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2" name="AutoShape 6"/>
          <p:cNvSpPr/>
          <p:nvPr/>
        </p:nvSpPr>
        <p:spPr>
          <a:xfrm>
            <a:off x="6443640" y="5300640"/>
            <a:ext cx="1081080" cy="649440"/>
          </a:xfrm>
          <a:custGeom>
            <a:avLst/>
            <a:gdLst>
              <a:gd name="textAreaLeft" fmla="*/ 41760 w 1081080"/>
              <a:gd name="textAreaRight" fmla="*/ 1039320 w 108108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5948" h="21600">
                <a:moveTo>
                  <a:pt x="0" y="0"/>
                </a:moveTo>
                <a:lnTo>
                  <a:pt x="35948" y="0"/>
                </a:lnTo>
                <a:lnTo>
                  <a:pt x="35948" y="21600"/>
                </a:lnTo>
                <a:lnTo>
                  <a:pt x="0" y="21600"/>
                </a:lnTo>
                <a:close/>
              </a:path>
              <a:path fill="lightenLess" w="35948" h="21600">
                <a:moveTo>
                  <a:pt x="0" y="0"/>
                </a:moveTo>
                <a:lnTo>
                  <a:pt x="35948" y="0"/>
                </a:lnTo>
                <a:lnTo>
                  <a:pt x="34548" y="1400"/>
                </a:lnTo>
                <a:lnTo>
                  <a:pt x="1400" y="1400"/>
                </a:lnTo>
                <a:close/>
              </a:path>
              <a:path fill="darken" w="35948" h="21600">
                <a:moveTo>
                  <a:pt x="35948" y="0"/>
                </a:moveTo>
                <a:lnTo>
                  <a:pt x="35948" y="21600"/>
                </a:lnTo>
                <a:lnTo>
                  <a:pt x="34548" y="20200"/>
                </a:lnTo>
                <a:lnTo>
                  <a:pt x="34548" y="1400"/>
                </a:lnTo>
                <a:close/>
              </a:path>
              <a:path fill="darkenLess" w="35948" h="21600">
                <a:moveTo>
                  <a:pt x="359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48" y="20200"/>
                </a:lnTo>
                <a:close/>
              </a:path>
              <a:path fill="lighten" w="359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48" h="21600">
                <a:moveTo>
                  <a:pt x="21473" y="10800"/>
                </a:moveTo>
                <a:lnTo>
                  <a:pt x="10968" y="17806"/>
                </a:lnTo>
                <a:lnTo>
                  <a:pt x="10968" y="3794"/>
                </a:lnTo>
                <a:close/>
              </a:path>
              <a:path fill="darken" w="35948" h="21600">
                <a:moveTo>
                  <a:pt x="23318" y="3794"/>
                </a:moveTo>
                <a:lnTo>
                  <a:pt x="23318" y="17806"/>
                </a:lnTo>
                <a:lnTo>
                  <a:pt x="24981" y="17806"/>
                </a:lnTo>
                <a:lnTo>
                  <a:pt x="24981" y="3794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AutoShape 7"/>
          <p:cNvSpPr/>
          <p:nvPr/>
        </p:nvSpPr>
        <p:spPr>
          <a:xfrm>
            <a:off x="684360" y="2421000"/>
            <a:ext cx="792000" cy="647640"/>
          </a:xfrm>
          <a:custGeom>
            <a:avLst/>
            <a:gdLst>
              <a:gd name="textAreaLeft" fmla="*/ 41760 w 792000"/>
              <a:gd name="textAreaRight" fmla="*/ 750240 w 792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6412" h="21600">
                <a:moveTo>
                  <a:pt x="0" y="0"/>
                </a:moveTo>
                <a:lnTo>
                  <a:pt x="26412" y="0"/>
                </a:lnTo>
                <a:lnTo>
                  <a:pt x="26412" y="21600"/>
                </a:lnTo>
                <a:lnTo>
                  <a:pt x="0" y="21600"/>
                </a:lnTo>
                <a:close/>
              </a:path>
              <a:path fill="lightenLess" w="26412" h="21600">
                <a:moveTo>
                  <a:pt x="0" y="0"/>
                </a:moveTo>
                <a:lnTo>
                  <a:pt x="26412" y="0"/>
                </a:lnTo>
                <a:lnTo>
                  <a:pt x="25012" y="1400"/>
                </a:lnTo>
                <a:lnTo>
                  <a:pt x="1400" y="1400"/>
                </a:lnTo>
                <a:close/>
              </a:path>
              <a:path fill="darken" w="26412" h="21600">
                <a:moveTo>
                  <a:pt x="26412" y="0"/>
                </a:moveTo>
                <a:lnTo>
                  <a:pt x="26412" y="21600"/>
                </a:lnTo>
                <a:lnTo>
                  <a:pt x="25012" y="20200"/>
                </a:lnTo>
                <a:lnTo>
                  <a:pt x="25012" y="1400"/>
                </a:lnTo>
                <a:close/>
              </a:path>
              <a:path fill="darkenLess" w="26412" h="21600">
                <a:moveTo>
                  <a:pt x="264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12" y="20200"/>
                </a:lnTo>
                <a:close/>
              </a:path>
              <a:path fill="lighten" w="264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12" h="21600">
                <a:moveTo>
                  <a:pt x="6200" y="10800"/>
                </a:moveTo>
                <a:lnTo>
                  <a:pt x="20212" y="3794"/>
                </a:lnTo>
                <a:lnTo>
                  <a:pt x="20212" y="17806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WordArt 4"/>
          <p:cNvSpPr txBox="1"/>
          <p:nvPr/>
        </p:nvSpPr>
        <p:spPr>
          <a:xfrm>
            <a:off x="2556000" y="1197000"/>
            <a:ext cx="388764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INCOREC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468360" y="2995560"/>
            <a:ext cx="7128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I INCEAR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3132000" y="5373720"/>
            <a:ext cx="4535640" cy="719280"/>
          </a:xfrm>
          <a:custGeom>
            <a:avLst/>
            <a:gdLst>
              <a:gd name="textAreaLeft" fmla="*/ 46440 w 4535640"/>
              <a:gd name="textAreaRight" fmla="*/ 4489200 w 453564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136148" h="21600">
                <a:moveTo>
                  <a:pt x="0" y="0"/>
                </a:moveTo>
                <a:lnTo>
                  <a:pt x="136148" y="0"/>
                </a:lnTo>
                <a:lnTo>
                  <a:pt x="136148" y="21600"/>
                </a:lnTo>
                <a:lnTo>
                  <a:pt x="0" y="21600"/>
                </a:lnTo>
                <a:close/>
              </a:path>
              <a:path fill="lightenLess" w="136148" h="21600">
                <a:moveTo>
                  <a:pt x="0" y="0"/>
                </a:moveTo>
                <a:lnTo>
                  <a:pt x="136148" y="0"/>
                </a:lnTo>
                <a:lnTo>
                  <a:pt x="134748" y="1400"/>
                </a:lnTo>
                <a:lnTo>
                  <a:pt x="1400" y="1400"/>
                </a:lnTo>
                <a:close/>
              </a:path>
              <a:path fill="darken" w="136148" h="21600">
                <a:moveTo>
                  <a:pt x="136148" y="0"/>
                </a:moveTo>
                <a:lnTo>
                  <a:pt x="136148" y="21600"/>
                </a:lnTo>
                <a:lnTo>
                  <a:pt x="134748" y="20200"/>
                </a:lnTo>
                <a:lnTo>
                  <a:pt x="134748" y="1400"/>
                </a:lnTo>
                <a:close/>
              </a:path>
              <a:path fill="darkenLess" w="136148" h="21600">
                <a:moveTo>
                  <a:pt x="1361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748" y="20200"/>
                </a:lnTo>
                <a:close/>
              </a:path>
              <a:path fill="lighten" w="1361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POI LA EXERCITI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/>
          <p:cNvSpPr/>
          <p:nvPr/>
        </p:nvSpPr>
        <p:spPr>
          <a:xfrm>
            <a:off x="1547640" y="981000"/>
            <a:ext cx="6120000" cy="5329440"/>
          </a:xfrm>
          <a:prstGeom prst="pie">
            <a:avLst/>
          </a:prstGeom>
          <a:gradFill rotWithShape="0">
            <a:gsLst>
              <a:gs pos="0">
                <a:srgbClr val="ffef66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omic Sans MS"/>
              </a:rPr>
              <a:t>3.Rezolva problema dupa urmatoarea reprezentare graf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5"/>
              <p:cNvSpPr txBox="1"/>
              <p:nvPr/>
            </p:nvSpPr>
            <p:spPr>
              <a:xfrm>
                <a:off x="6438960" y="259704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3" name="Rectangle 6"/>
          <p:cNvSpPr/>
          <p:nvPr/>
        </p:nvSpPr>
        <p:spPr>
          <a:xfrm>
            <a:off x="1187280" y="2133720"/>
            <a:ext cx="57610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1116000" y="1989000"/>
            <a:ext cx="73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6877080" y="1989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3419640" y="1989000"/>
            <a:ext cx="7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4284720" y="1989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5148360" y="1989000"/>
            <a:ext cx="712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99" name="Rectangle 12"/>
          <p:cNvSpPr/>
          <p:nvPr/>
        </p:nvSpPr>
        <p:spPr>
          <a:xfrm>
            <a:off x="5940360" y="1989000"/>
            <a:ext cx="7164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0" name="Rectangle 13"/>
          <p:cNvSpPr/>
          <p:nvPr/>
        </p:nvSpPr>
        <p:spPr>
          <a:xfrm>
            <a:off x="2627280" y="1989000"/>
            <a:ext cx="7308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1" name="Rectangle 14"/>
          <p:cNvSpPr/>
          <p:nvPr/>
        </p:nvSpPr>
        <p:spPr>
          <a:xfrm>
            <a:off x="1835280" y="1989000"/>
            <a:ext cx="72720" cy="36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15"/>
              <p:cNvSpPr txBox="1"/>
              <p:nvPr/>
            </p:nvSpPr>
            <p:spPr>
              <a:xfrm>
                <a:off x="6032520" y="3733920"/>
                <a:ext cx="9270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3" name="AutoShape 16"/>
          <p:cNvSpPr/>
          <p:nvPr/>
        </p:nvSpPr>
        <p:spPr>
          <a:xfrm rot="5400000">
            <a:off x="2517840" y="985680"/>
            <a:ext cx="433080" cy="3240000"/>
          </a:xfrm>
          <a:custGeom>
            <a:avLst/>
            <a:gdLst>
              <a:gd name="textAreaLeft" fmla="*/ 0 w 433080"/>
              <a:gd name="textAreaRight" fmla="*/ 156240 w 43308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4" name="AutoShape 17"/>
          <p:cNvSpPr/>
          <p:nvPr/>
        </p:nvSpPr>
        <p:spPr>
          <a:xfrm rot="5400000">
            <a:off x="5346720" y="1287000"/>
            <a:ext cx="503280" cy="2627280"/>
          </a:xfrm>
          <a:custGeom>
            <a:avLst/>
            <a:gdLst>
              <a:gd name="textAreaLeft" fmla="*/ 0 w 503280"/>
              <a:gd name="textAreaRight" fmla="*/ 181800 w 503280"/>
              <a:gd name="textAreaTop" fmla="*/ 68400 h 2627280"/>
              <a:gd name="textAreaBottom" fmla="*/ 2558880 h 262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AutoShape 18"/>
          <p:cNvSpPr/>
          <p:nvPr/>
        </p:nvSpPr>
        <p:spPr>
          <a:xfrm rot="16200000">
            <a:off x="3923280" y="-1035720"/>
            <a:ext cx="217440" cy="5689800"/>
          </a:xfrm>
          <a:custGeom>
            <a:avLst/>
            <a:gdLst>
              <a:gd name="textAreaLeft" fmla="*/ 0 w 217440"/>
              <a:gd name="textAreaRight" fmla="*/ 78480 w 217440"/>
              <a:gd name="textAreaTop" fmla="*/ 148320 h 5689800"/>
              <a:gd name="textAreaBottom" fmla="*/ 5541480 h 568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6" name="WordArt 19"/>
          <p:cNvSpPr txBox="1"/>
          <p:nvPr/>
        </p:nvSpPr>
        <p:spPr>
          <a:xfrm>
            <a:off x="2195640" y="2924280"/>
            <a:ext cx="108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ETE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7" name="WordArt 20"/>
          <p:cNvSpPr txBox="1"/>
          <p:nvPr/>
        </p:nvSpPr>
        <p:spPr>
          <a:xfrm>
            <a:off x="5003640" y="2924280"/>
            <a:ext cx="1467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AIET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8" name="WordArt 21"/>
          <p:cNvSpPr txBox="1"/>
          <p:nvPr/>
        </p:nvSpPr>
        <p:spPr>
          <a:xfrm>
            <a:off x="3132000" y="1197000"/>
            <a:ext cx="1876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noFill/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28 ELEVI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noFill/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9" name="AutoShape 22"/>
          <p:cNvSpPr/>
          <p:nvPr/>
        </p:nvSpPr>
        <p:spPr>
          <a:xfrm>
            <a:off x="250920" y="3645000"/>
            <a:ext cx="3168720" cy="574560"/>
          </a:xfrm>
          <a:custGeom>
            <a:avLst/>
            <a:gdLst>
              <a:gd name="textAreaLeft" fmla="*/ 37080 w 3168720"/>
              <a:gd name="textAreaRight" fmla="*/ 3131640 w 31687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119064" h="21600">
                <a:moveTo>
                  <a:pt x="0" y="0"/>
                </a:moveTo>
                <a:lnTo>
                  <a:pt x="119064" y="0"/>
                </a:lnTo>
                <a:lnTo>
                  <a:pt x="119064" y="21600"/>
                </a:lnTo>
                <a:lnTo>
                  <a:pt x="0" y="21600"/>
                </a:lnTo>
                <a:close/>
              </a:path>
              <a:path fill="lightenLess" w="119064" h="21600">
                <a:moveTo>
                  <a:pt x="0" y="0"/>
                </a:moveTo>
                <a:lnTo>
                  <a:pt x="119064" y="0"/>
                </a:lnTo>
                <a:lnTo>
                  <a:pt x="117664" y="1400"/>
                </a:lnTo>
                <a:lnTo>
                  <a:pt x="1400" y="1400"/>
                </a:lnTo>
                <a:close/>
              </a:path>
              <a:path fill="darken" w="119064" h="21600">
                <a:moveTo>
                  <a:pt x="119064" y="0"/>
                </a:moveTo>
                <a:lnTo>
                  <a:pt x="119064" y="21600"/>
                </a:lnTo>
                <a:lnTo>
                  <a:pt x="117664" y="20200"/>
                </a:lnTo>
                <a:lnTo>
                  <a:pt x="117664" y="1400"/>
                </a:lnTo>
                <a:close/>
              </a:path>
              <a:path fill="darkenLess" w="119064" h="21600">
                <a:moveTo>
                  <a:pt x="1190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664" y="20200"/>
                </a:lnTo>
                <a:close/>
              </a:path>
              <a:path fill="lighten" w="1190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6 fete si 12 baie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0" name="AutoShape 23"/>
          <p:cNvSpPr/>
          <p:nvPr/>
        </p:nvSpPr>
        <p:spPr>
          <a:xfrm>
            <a:off x="2771640" y="4508640"/>
            <a:ext cx="3024360" cy="649080"/>
          </a:xfrm>
          <a:custGeom>
            <a:avLst/>
            <a:gdLst>
              <a:gd name="textAreaLeft" fmla="*/ 41760 w 3024360"/>
              <a:gd name="textAreaRight" fmla="*/ 2982600 w 302436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100600" h="21600">
                <a:moveTo>
                  <a:pt x="0" y="0"/>
                </a:moveTo>
                <a:lnTo>
                  <a:pt x="100600" y="0"/>
                </a:lnTo>
                <a:lnTo>
                  <a:pt x="100600" y="21600"/>
                </a:lnTo>
                <a:lnTo>
                  <a:pt x="0" y="21600"/>
                </a:lnTo>
                <a:close/>
              </a:path>
              <a:path fill="lightenLess" w="100600" h="21600">
                <a:moveTo>
                  <a:pt x="0" y="0"/>
                </a:moveTo>
                <a:lnTo>
                  <a:pt x="100600" y="0"/>
                </a:lnTo>
                <a:lnTo>
                  <a:pt x="99201" y="1400"/>
                </a:lnTo>
                <a:lnTo>
                  <a:pt x="1400" y="1400"/>
                </a:lnTo>
                <a:close/>
              </a:path>
              <a:path fill="darken" w="100600" h="21600">
                <a:moveTo>
                  <a:pt x="100600" y="0"/>
                </a:moveTo>
                <a:lnTo>
                  <a:pt x="100600" y="21600"/>
                </a:lnTo>
                <a:lnTo>
                  <a:pt x="99201" y="20200"/>
                </a:lnTo>
                <a:lnTo>
                  <a:pt x="99201" y="1400"/>
                </a:lnTo>
                <a:close/>
              </a:path>
              <a:path fill="darkenLess" w="100600" h="21600">
                <a:moveTo>
                  <a:pt x="100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9201" y="20200"/>
                </a:lnTo>
                <a:close/>
              </a:path>
              <a:path fill="lighten" w="100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2 fete si 16 baie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11" name="AutoShape 24"/>
          <p:cNvSpPr/>
          <p:nvPr/>
        </p:nvSpPr>
        <p:spPr>
          <a:xfrm>
            <a:off x="5148360" y="5516640"/>
            <a:ext cx="2879640" cy="649080"/>
          </a:xfrm>
          <a:custGeom>
            <a:avLst/>
            <a:gdLst>
              <a:gd name="textAreaLeft" fmla="*/ 41760 w 2879640"/>
              <a:gd name="textAreaRight" fmla="*/ 2837880 w 2879640"/>
              <a:gd name="textAreaTop" fmla="*/ 41760 h 649080"/>
              <a:gd name="textAreaBottom" fmla="*/ 607320 h 649080"/>
            </a:gdLst>
            <a:ahLst/>
            <a:rect l="textAreaLeft" t="textAreaTop" r="textAreaRight" b="textAreaBottom"/>
            <a:pathLst>
              <a:path w="95787" h="21600">
                <a:moveTo>
                  <a:pt x="0" y="0"/>
                </a:moveTo>
                <a:lnTo>
                  <a:pt x="95787" y="0"/>
                </a:lnTo>
                <a:lnTo>
                  <a:pt x="95787" y="21600"/>
                </a:lnTo>
                <a:lnTo>
                  <a:pt x="0" y="21600"/>
                </a:lnTo>
                <a:close/>
              </a:path>
              <a:path fill="lightenLess" w="95787" h="21600">
                <a:moveTo>
                  <a:pt x="0" y="0"/>
                </a:moveTo>
                <a:lnTo>
                  <a:pt x="95787" y="0"/>
                </a:lnTo>
                <a:lnTo>
                  <a:pt x="94387" y="1400"/>
                </a:lnTo>
                <a:lnTo>
                  <a:pt x="1400" y="1400"/>
                </a:lnTo>
                <a:close/>
              </a:path>
              <a:path fill="darken" w="95787" h="21600">
                <a:moveTo>
                  <a:pt x="95787" y="0"/>
                </a:moveTo>
                <a:lnTo>
                  <a:pt x="95787" y="21600"/>
                </a:lnTo>
                <a:lnTo>
                  <a:pt x="94387" y="20200"/>
                </a:lnTo>
                <a:lnTo>
                  <a:pt x="94387" y="1400"/>
                </a:lnTo>
                <a:close/>
              </a:path>
              <a:path fill="darkenLess" w="95787" h="21600">
                <a:moveTo>
                  <a:pt x="957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4387" y="20200"/>
                </a:lnTo>
                <a:close/>
              </a:path>
              <a:path fill="lighten" w="957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8 fete si 10 baie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C</a:t>
            </a:r>
            <a:r>
              <a:rPr b="0" lang="en-US" sz="5400" spc="-1" strike="noStrike">
                <a:solidFill>
                  <a:srgbClr val="703dff"/>
                </a:solidFill>
                <a:latin typeface="Comic Sans MS"/>
              </a:rPr>
              <a:t>O</a:t>
            </a:r>
            <a:r>
              <a:rPr b="0" lang="en-US" sz="5400" spc="-1" strike="noStrike">
                <a:solidFill>
                  <a:srgbClr val="ffef66"/>
                </a:solidFill>
                <a:latin typeface="Comic Sans MS"/>
              </a:rPr>
              <a:t>R</a:t>
            </a:r>
            <a:r>
              <a:rPr b="0" lang="en-US" sz="5400" spc="-1" strike="noStrike">
                <a:solidFill>
                  <a:srgbClr val="00b200"/>
                </a:solidFill>
                <a:latin typeface="Comic Sans MS"/>
              </a:rPr>
              <a:t>E</a:t>
            </a:r>
            <a:r>
              <a:rPr b="0" lang="en-US" sz="5400" spc="-1" strike="noStrike">
                <a:solidFill>
                  <a:srgbClr val="663300"/>
                </a:solidFill>
                <a:latin typeface="Comic Sans MS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5400" spc="-1" strike="noStrike">
                <a:solidFill>
                  <a:srgbClr val="cc0099"/>
                </a:solidFill>
                <a:latin typeface="Comic Sans MS"/>
              </a:rPr>
              <a:t>!!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 pare ca ti-ai insusit cunostintele despre fractii!Bravo…tine-o tot asa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4" name="Picture 4" descr="felicitari2"/>
          <p:cNvPicPr/>
          <p:nvPr/>
        </p:nvPicPr>
        <p:blipFill>
          <a:blip r:embed="rId1"/>
          <a:stretch/>
        </p:blipFill>
        <p:spPr>
          <a:xfrm>
            <a:off x="466740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415" name="WordArt 5"/>
          <p:cNvSpPr txBox="1"/>
          <p:nvPr/>
        </p:nvSpPr>
        <p:spPr>
          <a:xfrm>
            <a:off x="2050920" y="5734080"/>
            <a:ext cx="510552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Acum apasa aici ca sa iesi!!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16" name="AutoShape 6">
            <a:hlinkClick r:id="" action="ppaction://hlinkshowjump?jump=endshow"/>
          </p:cNvPr>
          <p:cNvSpPr/>
          <p:nvPr/>
        </p:nvSpPr>
        <p:spPr>
          <a:xfrm>
            <a:off x="7524720" y="5661000"/>
            <a:ext cx="1079640" cy="720720"/>
          </a:xfrm>
          <a:custGeom>
            <a:avLst/>
            <a:gdLst>
              <a:gd name="textAreaLeft" fmla="*/ 46440 w 1079640"/>
              <a:gd name="textAreaRight" fmla="*/ 1033200 w 1079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2351" h="21600">
                <a:moveTo>
                  <a:pt x="0" y="0"/>
                </a:moveTo>
                <a:lnTo>
                  <a:pt x="32351" y="0"/>
                </a:lnTo>
                <a:lnTo>
                  <a:pt x="32351" y="21600"/>
                </a:lnTo>
                <a:lnTo>
                  <a:pt x="0" y="21600"/>
                </a:lnTo>
                <a:close/>
              </a:path>
              <a:path fill="lightenLess" w="32351" h="21600">
                <a:moveTo>
                  <a:pt x="0" y="0"/>
                </a:moveTo>
                <a:lnTo>
                  <a:pt x="32351" y="0"/>
                </a:lnTo>
                <a:lnTo>
                  <a:pt x="30951" y="1400"/>
                </a:lnTo>
                <a:lnTo>
                  <a:pt x="1400" y="1400"/>
                </a:lnTo>
                <a:close/>
              </a:path>
              <a:path fill="darken" w="32351" h="21600">
                <a:moveTo>
                  <a:pt x="32351" y="0"/>
                </a:moveTo>
                <a:lnTo>
                  <a:pt x="32351" y="21600"/>
                </a:lnTo>
                <a:lnTo>
                  <a:pt x="30951" y="20200"/>
                </a:lnTo>
                <a:lnTo>
                  <a:pt x="30951" y="1400"/>
                </a:lnTo>
                <a:close/>
              </a:path>
              <a:path fill="darkenLess" w="32351" h="21600">
                <a:moveTo>
                  <a:pt x="32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1" y="20200"/>
                </a:lnTo>
                <a:close/>
              </a:path>
              <a:path fill="lighten" w="32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1" h="21600">
                <a:moveTo>
                  <a:pt x="19675" y="10800"/>
                </a:moveTo>
                <a:lnTo>
                  <a:pt x="9169" y="17806"/>
                </a:lnTo>
                <a:lnTo>
                  <a:pt x="9169" y="3794"/>
                </a:lnTo>
                <a:close/>
              </a:path>
              <a:path fill="darken" w="32351" h="21600">
                <a:moveTo>
                  <a:pt x="21520" y="3794"/>
                </a:moveTo>
                <a:lnTo>
                  <a:pt x="21520" y="17806"/>
                </a:lnTo>
                <a:lnTo>
                  <a:pt x="23182" y="17806"/>
                </a:lnTo>
                <a:lnTo>
                  <a:pt x="23182" y="3794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i dreptate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rav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7"/>
          <p:cNvSpPr/>
          <p:nvPr/>
        </p:nvSpPr>
        <p:spPr>
          <a:xfrm>
            <a:off x="6443640" y="333360"/>
            <a:ext cx="2158920" cy="22320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1835280" y="1413000"/>
            <a:ext cx="5329080" cy="3600360"/>
          </a:xfrm>
          <a:prstGeom prst="cloud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sunt de 3 tipuri si se pare ca ai stiut sa alegi corect!..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licitari!!!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AutoShape 10">
            <a:hlinkClick r:id="rId1" action="ppaction://hlinksldjump"/>
          </p:cNvPr>
          <p:cNvSpPr/>
          <p:nvPr/>
        </p:nvSpPr>
        <p:spPr>
          <a:xfrm>
            <a:off x="6516720" y="530064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3794"/>
                </a:moveTo>
                <a:lnTo>
                  <a:pt x="22139" y="10800"/>
                </a:lnTo>
                <a:lnTo>
                  <a:pt x="812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WordArt 12"/>
          <p:cNvSpPr txBox="1"/>
          <p:nvPr/>
        </p:nvSpPr>
        <p:spPr>
          <a:xfrm>
            <a:off x="5508720" y="4653000"/>
            <a:ext cx="3132000" cy="29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rmatoarea pagin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AutoShape 13">
            <a:hlinkClick r:id="rId2" action="ppaction://hlinksldjump"/>
          </p:cNvPr>
          <p:cNvSpPr/>
          <p:nvPr/>
        </p:nvSpPr>
        <p:spPr>
          <a:xfrm>
            <a:off x="1547640" y="5229360"/>
            <a:ext cx="1079640" cy="792000"/>
          </a:xfrm>
          <a:custGeom>
            <a:avLst/>
            <a:gdLst>
              <a:gd name="textAreaLeft" fmla="*/ 51120 w 1079640"/>
              <a:gd name="textAreaRight" fmla="*/ 1028520 w 1079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9441" h="21600">
                <a:moveTo>
                  <a:pt x="0" y="0"/>
                </a:moveTo>
                <a:lnTo>
                  <a:pt x="29441" y="0"/>
                </a:lnTo>
                <a:lnTo>
                  <a:pt x="29441" y="21600"/>
                </a:lnTo>
                <a:lnTo>
                  <a:pt x="0" y="21600"/>
                </a:lnTo>
                <a:close/>
              </a:path>
              <a:path fill="lightenLess" w="29441" h="21600">
                <a:moveTo>
                  <a:pt x="0" y="0"/>
                </a:moveTo>
                <a:lnTo>
                  <a:pt x="29441" y="0"/>
                </a:lnTo>
                <a:lnTo>
                  <a:pt x="28041" y="1400"/>
                </a:lnTo>
                <a:lnTo>
                  <a:pt x="1400" y="1400"/>
                </a:lnTo>
                <a:close/>
              </a:path>
              <a:path fill="darken" w="29441" h="21600">
                <a:moveTo>
                  <a:pt x="29441" y="0"/>
                </a:moveTo>
                <a:lnTo>
                  <a:pt x="29441" y="21600"/>
                </a:lnTo>
                <a:lnTo>
                  <a:pt x="28041" y="20200"/>
                </a:lnTo>
                <a:lnTo>
                  <a:pt x="28041" y="1400"/>
                </a:lnTo>
                <a:close/>
              </a:path>
              <a:path fill="darkenLess" w="29441" h="21600">
                <a:moveTo>
                  <a:pt x="29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41" y="20200"/>
                </a:lnTo>
                <a:close/>
              </a:path>
              <a:path fill="lighten" w="29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41" h="21600">
                <a:moveTo>
                  <a:pt x="7714" y="10800"/>
                </a:moveTo>
                <a:lnTo>
                  <a:pt x="21727" y="3794"/>
                </a:lnTo>
                <a:lnTo>
                  <a:pt x="21727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WordArt 14"/>
          <p:cNvSpPr txBox="1"/>
          <p:nvPr/>
        </p:nvSpPr>
        <p:spPr>
          <a:xfrm>
            <a:off x="468360" y="4653000"/>
            <a:ext cx="3058920" cy="2914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Inapoi la exercitii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i gresi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 incearca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476360" y="2133720"/>
            <a:ext cx="5472000" cy="2663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subunitare au numitorul mai mare decat numaratorul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supraunitare au numitorul mai mic decat numaratorul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actiile echiunitare au numitorul egal cu numaratorul!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AutoShape 5">
            <a:hlinkClick r:id="rId1" action="ppaction://hlinksldjump"/>
          </p:cNvPr>
          <p:cNvSpPr/>
          <p:nvPr/>
        </p:nvSpPr>
        <p:spPr>
          <a:xfrm>
            <a:off x="7164360" y="5445000"/>
            <a:ext cx="1152720" cy="1008360"/>
          </a:xfrm>
          <a:custGeom>
            <a:avLst/>
            <a:gdLst>
              <a:gd name="textAreaLeft" fmla="*/ 65160 w 1152720"/>
              <a:gd name="textAreaRight" fmla="*/ 1087560 w 1152720"/>
              <a:gd name="textAreaTop" fmla="*/ 65160 h 1008360"/>
              <a:gd name="textAreaBottom" fmla="*/ 943200 h 1008360"/>
            </a:gdLst>
            <a:ahLst/>
            <a:rect l="textAreaLeft" t="textAreaTop" r="textAreaRight" b="textAreaBottom"/>
            <a:pathLst>
              <a:path w="24691" h="21600">
                <a:moveTo>
                  <a:pt x="0" y="0"/>
                </a:moveTo>
                <a:lnTo>
                  <a:pt x="24691" y="0"/>
                </a:lnTo>
                <a:lnTo>
                  <a:pt x="24691" y="21600"/>
                </a:lnTo>
                <a:lnTo>
                  <a:pt x="0" y="21600"/>
                </a:lnTo>
                <a:close/>
              </a:path>
              <a:path fill="lightenLess" w="24691" h="21600">
                <a:moveTo>
                  <a:pt x="0" y="0"/>
                </a:moveTo>
                <a:lnTo>
                  <a:pt x="24691" y="0"/>
                </a:lnTo>
                <a:lnTo>
                  <a:pt x="23291" y="1400"/>
                </a:lnTo>
                <a:lnTo>
                  <a:pt x="1400" y="1400"/>
                </a:lnTo>
                <a:close/>
              </a:path>
              <a:path fill="darken" w="24691" h="21600">
                <a:moveTo>
                  <a:pt x="24691" y="0"/>
                </a:moveTo>
                <a:lnTo>
                  <a:pt x="24691" y="21600"/>
                </a:lnTo>
                <a:lnTo>
                  <a:pt x="23291" y="20200"/>
                </a:lnTo>
                <a:lnTo>
                  <a:pt x="23291" y="1400"/>
                </a:lnTo>
                <a:close/>
              </a:path>
              <a:path fill="darkenLess" w="24691" h="21600">
                <a:moveTo>
                  <a:pt x="24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1" y="20200"/>
                </a:lnTo>
                <a:close/>
              </a:path>
              <a:path fill="lighten" w="24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1" h="21600">
                <a:moveTo>
                  <a:pt x="5339" y="10800"/>
                </a:moveTo>
                <a:lnTo>
                  <a:pt x="19352" y="3794"/>
                </a:lnTo>
                <a:lnTo>
                  <a:pt x="19352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276720" y="5651640"/>
            <a:ext cx="338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Apasa aici si mai inceraca o data acum ca ai citit informatia!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8207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Calculati:                   3)Inlocuiti casuta cu cifr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312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)        din 630                              a)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)        din 420                              b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)        din 1800                             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)         din 315                              d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1403280" y="620640"/>
                <a:ext cx="432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5" name="AutoShape 6">
            <a:hlinkClick r:id="rId1" action="ppaction://hlinksldjump"/>
          </p:cNvPr>
          <p:cNvSpPr/>
          <p:nvPr/>
        </p:nvSpPr>
        <p:spPr>
          <a:xfrm>
            <a:off x="539640" y="141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AutoShape 7">
            <a:hlinkClick r:id="rId2" action="ppaction://hlinksldjump"/>
          </p:cNvPr>
          <p:cNvSpPr/>
          <p:nvPr/>
        </p:nvSpPr>
        <p:spPr>
          <a:xfrm>
            <a:off x="1403280" y="141300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67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AutoShape 8">
            <a:hlinkClick r:id="rId3" action="ppaction://hlinksldjump"/>
          </p:cNvPr>
          <p:cNvSpPr/>
          <p:nvPr/>
        </p:nvSpPr>
        <p:spPr>
          <a:xfrm>
            <a:off x="2268360" y="141300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4500720" y="333360"/>
            <a:ext cx="0" cy="597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476360" y="2133720"/>
                <a:ext cx="260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0" name="AutoShape 12">
            <a:hlinkClick r:id="rId4" action="ppaction://hlinksldjump"/>
          </p:cNvPr>
          <p:cNvSpPr/>
          <p:nvPr/>
        </p:nvSpPr>
        <p:spPr>
          <a:xfrm>
            <a:off x="539640" y="2852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2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AutoShape 13">
            <a:hlinkClick r:id="rId5" action="ppaction://hlinksldjump"/>
          </p:cNvPr>
          <p:cNvSpPr/>
          <p:nvPr/>
        </p:nvSpPr>
        <p:spPr>
          <a:xfrm>
            <a:off x="1403280" y="2852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1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AutoShape 14">
            <a:hlinkClick r:id="rId6" action="ppaction://hlinksldjump"/>
          </p:cNvPr>
          <p:cNvSpPr/>
          <p:nvPr/>
        </p:nvSpPr>
        <p:spPr>
          <a:xfrm>
            <a:off x="2268360" y="2852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840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15"/>
              <p:cNvSpPr txBox="1"/>
              <p:nvPr/>
            </p:nvSpPr>
            <p:spPr>
              <a:xfrm>
                <a:off x="1476360" y="3284640"/>
                <a:ext cx="398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AutoShape 16">
            <a:hlinkClick r:id="rId7" action="ppaction://hlinksldjump"/>
          </p:cNvPr>
          <p:cNvSpPr/>
          <p:nvPr/>
        </p:nvSpPr>
        <p:spPr>
          <a:xfrm>
            <a:off x="539640" y="4149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AutoShape 17">
            <a:hlinkClick r:id="rId8" action="ppaction://hlinksldjump"/>
          </p:cNvPr>
          <p:cNvSpPr/>
          <p:nvPr/>
        </p:nvSpPr>
        <p:spPr>
          <a:xfrm>
            <a:off x="1403280" y="4149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00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AutoShape 18">
            <a:hlinkClick r:id="rId9" action="ppaction://hlinksldjump"/>
          </p:cNvPr>
          <p:cNvSpPr/>
          <p:nvPr/>
        </p:nvSpPr>
        <p:spPr>
          <a:xfrm>
            <a:off x="2340000" y="4149720"/>
            <a:ext cx="647640" cy="35892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8958" h="21600">
                <a:moveTo>
                  <a:pt x="0" y="0"/>
                </a:moveTo>
                <a:lnTo>
                  <a:pt x="38958" y="0"/>
                </a:lnTo>
                <a:lnTo>
                  <a:pt x="38958" y="21600"/>
                </a:lnTo>
                <a:lnTo>
                  <a:pt x="0" y="21600"/>
                </a:lnTo>
                <a:close/>
              </a:path>
              <a:path fill="lightenLess" w="38958" h="21600">
                <a:moveTo>
                  <a:pt x="0" y="0"/>
                </a:moveTo>
                <a:lnTo>
                  <a:pt x="38958" y="0"/>
                </a:lnTo>
                <a:lnTo>
                  <a:pt x="37558" y="1400"/>
                </a:lnTo>
                <a:lnTo>
                  <a:pt x="1400" y="1400"/>
                </a:lnTo>
                <a:close/>
              </a:path>
              <a:path fill="darken" w="38958" h="21600">
                <a:moveTo>
                  <a:pt x="38958" y="0"/>
                </a:moveTo>
                <a:lnTo>
                  <a:pt x="38958" y="21600"/>
                </a:lnTo>
                <a:lnTo>
                  <a:pt x="37558" y="20200"/>
                </a:lnTo>
                <a:lnTo>
                  <a:pt x="37558" y="1400"/>
                </a:lnTo>
                <a:close/>
              </a:path>
              <a:path fill="darkenLess" w="38958" h="21600">
                <a:moveTo>
                  <a:pt x="38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58" y="20200"/>
                </a:lnTo>
                <a:close/>
              </a:path>
              <a:path fill="lighten" w="38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9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19"/>
              <p:cNvSpPr txBox="1"/>
              <p:nvPr/>
            </p:nvSpPr>
            <p:spPr>
              <a:xfrm>
                <a:off x="5148360" y="692280"/>
                <a:ext cx="25048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8" name="Rectangle 20"/>
          <p:cNvSpPr/>
          <p:nvPr/>
        </p:nvSpPr>
        <p:spPr>
          <a:xfrm>
            <a:off x="6804000" y="765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AutoShape 21">
            <a:hlinkClick r:id="rId10" action="ppaction://hlinksldjump"/>
          </p:cNvPr>
          <p:cNvSpPr/>
          <p:nvPr/>
        </p:nvSpPr>
        <p:spPr>
          <a:xfrm>
            <a:off x="4788000" y="148428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AutoShape 22">
            <a:hlinkClick r:id="rId11" action="ppaction://hlinksldjump"/>
          </p:cNvPr>
          <p:cNvSpPr/>
          <p:nvPr/>
        </p:nvSpPr>
        <p:spPr>
          <a:xfrm>
            <a:off x="5796000" y="1484280"/>
            <a:ext cx="576360" cy="35892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34673" h="21600">
                <a:moveTo>
                  <a:pt x="0" y="0"/>
                </a:moveTo>
                <a:lnTo>
                  <a:pt x="34673" y="0"/>
                </a:lnTo>
                <a:lnTo>
                  <a:pt x="34673" y="21600"/>
                </a:lnTo>
                <a:lnTo>
                  <a:pt x="0" y="21600"/>
                </a:lnTo>
                <a:close/>
              </a:path>
              <a:path fill="lightenLess" w="34673" h="21600">
                <a:moveTo>
                  <a:pt x="0" y="0"/>
                </a:moveTo>
                <a:lnTo>
                  <a:pt x="34673" y="0"/>
                </a:lnTo>
                <a:lnTo>
                  <a:pt x="33273" y="1400"/>
                </a:lnTo>
                <a:lnTo>
                  <a:pt x="1400" y="1400"/>
                </a:lnTo>
                <a:close/>
              </a:path>
              <a:path fill="darken" w="34673" h="21600">
                <a:moveTo>
                  <a:pt x="34673" y="0"/>
                </a:moveTo>
                <a:lnTo>
                  <a:pt x="34673" y="21600"/>
                </a:lnTo>
                <a:lnTo>
                  <a:pt x="33273" y="20200"/>
                </a:lnTo>
                <a:lnTo>
                  <a:pt x="33273" y="1400"/>
                </a:lnTo>
                <a:close/>
              </a:path>
              <a:path fill="darkenLess" w="34673" h="21600">
                <a:moveTo>
                  <a:pt x="3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273" y="20200"/>
                </a:lnTo>
                <a:close/>
              </a:path>
              <a:path fill="lighten" w="3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AutoShape 23">
            <a:hlinkClick r:id="rId12" action="ppaction://hlinksldjump"/>
          </p:cNvPr>
          <p:cNvSpPr/>
          <p:nvPr/>
        </p:nvSpPr>
        <p:spPr>
          <a:xfrm>
            <a:off x="6804000" y="148428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24"/>
              <p:cNvSpPr txBox="1"/>
              <p:nvPr/>
            </p:nvSpPr>
            <p:spPr>
              <a:xfrm>
                <a:off x="5148360" y="2060640"/>
                <a:ext cx="26272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Rectangle 25"/>
          <p:cNvSpPr/>
          <p:nvPr/>
        </p:nvSpPr>
        <p:spPr>
          <a:xfrm>
            <a:off x="6877080" y="213372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AutoShape 26">
            <a:hlinkClick r:id="rId13" action="ppaction://hlinksldjump"/>
          </p:cNvPr>
          <p:cNvSpPr/>
          <p:nvPr/>
        </p:nvSpPr>
        <p:spPr>
          <a:xfrm>
            <a:off x="4788000" y="2781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AutoShape 27">
            <a:hlinkClick r:id="rId14" action="ppaction://hlinksldjump"/>
          </p:cNvPr>
          <p:cNvSpPr/>
          <p:nvPr/>
        </p:nvSpPr>
        <p:spPr>
          <a:xfrm>
            <a:off x="5796000" y="2781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AutoShape 28">
            <a:hlinkClick r:id="rId15" action="ppaction://hlinksldjump"/>
          </p:cNvPr>
          <p:cNvSpPr/>
          <p:nvPr/>
        </p:nvSpPr>
        <p:spPr>
          <a:xfrm>
            <a:off x="6877080" y="2781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29"/>
              <p:cNvSpPr txBox="1"/>
              <p:nvPr/>
            </p:nvSpPr>
            <p:spPr>
              <a:xfrm>
                <a:off x="5003640" y="3284640"/>
                <a:ext cx="288144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+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8" name="Rectangle 30"/>
          <p:cNvSpPr/>
          <p:nvPr/>
        </p:nvSpPr>
        <p:spPr>
          <a:xfrm>
            <a:off x="6877080" y="3357720"/>
            <a:ext cx="216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AutoShape 31">
            <a:hlinkClick r:id="rId16" action="ppaction://hlinksldjump"/>
          </p:cNvPr>
          <p:cNvSpPr/>
          <p:nvPr/>
        </p:nvSpPr>
        <p:spPr>
          <a:xfrm>
            <a:off x="4716360" y="407664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AutoShape 32">
            <a:hlinkClick r:id="rId17" action="ppaction://hlinksldjump"/>
          </p:cNvPr>
          <p:cNvSpPr/>
          <p:nvPr/>
        </p:nvSpPr>
        <p:spPr>
          <a:xfrm>
            <a:off x="5796000" y="4076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AutoShape 33">
            <a:hlinkClick r:id="rId18" action="ppaction://hlinksldjump"/>
          </p:cNvPr>
          <p:cNvSpPr/>
          <p:nvPr/>
        </p:nvSpPr>
        <p:spPr>
          <a:xfrm>
            <a:off x="6877080" y="407664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4"/>
              <p:cNvSpPr txBox="1"/>
              <p:nvPr/>
            </p:nvSpPr>
            <p:spPr>
              <a:xfrm>
                <a:off x="1332000" y="4508640"/>
                <a:ext cx="36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35"/>
              <p:cNvSpPr txBox="1"/>
              <p:nvPr/>
            </p:nvSpPr>
            <p:spPr>
              <a:xfrm>
                <a:off x="5076720" y="4508640"/>
                <a:ext cx="27352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f>
                      <m:num/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Rectangle 36"/>
          <p:cNvSpPr/>
          <p:nvPr/>
        </p:nvSpPr>
        <p:spPr>
          <a:xfrm>
            <a:off x="6877080" y="4581360"/>
            <a:ext cx="216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AutoShape 37">
            <a:hlinkClick r:id="rId19" action="ppaction://hlinksldjump"/>
          </p:cNvPr>
          <p:cNvSpPr/>
          <p:nvPr/>
        </p:nvSpPr>
        <p:spPr>
          <a:xfrm>
            <a:off x="539640" y="5229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icrosoft Sans Serif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AutoShape 38">
            <a:hlinkClick r:id="rId20" action="ppaction://hlinksldjump"/>
          </p:cNvPr>
          <p:cNvSpPr/>
          <p:nvPr/>
        </p:nvSpPr>
        <p:spPr>
          <a:xfrm>
            <a:off x="1476360" y="5229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AutoShape 39">
            <a:hlinkClick r:id="rId21" action="ppaction://hlinksldjump"/>
          </p:cNvPr>
          <p:cNvSpPr/>
          <p:nvPr/>
        </p:nvSpPr>
        <p:spPr>
          <a:xfrm>
            <a:off x="2411280" y="5229360"/>
            <a:ext cx="648000" cy="431640"/>
          </a:xfrm>
          <a:custGeom>
            <a:avLst/>
            <a:gdLst>
              <a:gd name="textAreaLeft" fmla="*/ 27720 w 648000"/>
              <a:gd name="textAreaRight" fmla="*/ 620280 w 64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18" h="21600">
                <a:moveTo>
                  <a:pt x="0" y="0"/>
                </a:moveTo>
                <a:lnTo>
                  <a:pt x="32418" y="0"/>
                </a:lnTo>
                <a:lnTo>
                  <a:pt x="32418" y="21600"/>
                </a:lnTo>
                <a:lnTo>
                  <a:pt x="0" y="21600"/>
                </a:lnTo>
                <a:close/>
              </a:path>
              <a:path fill="lightenLess" w="32418" h="21600">
                <a:moveTo>
                  <a:pt x="0" y="0"/>
                </a:moveTo>
                <a:lnTo>
                  <a:pt x="32418" y="0"/>
                </a:lnTo>
                <a:lnTo>
                  <a:pt x="31018" y="1400"/>
                </a:lnTo>
                <a:lnTo>
                  <a:pt x="1400" y="1400"/>
                </a:lnTo>
                <a:close/>
              </a:path>
              <a:path fill="darken" w="32418" h="21600">
                <a:moveTo>
                  <a:pt x="32418" y="0"/>
                </a:moveTo>
                <a:lnTo>
                  <a:pt x="32418" y="21600"/>
                </a:lnTo>
                <a:lnTo>
                  <a:pt x="31018" y="20200"/>
                </a:lnTo>
                <a:lnTo>
                  <a:pt x="31018" y="1400"/>
                </a:lnTo>
                <a:close/>
              </a:path>
              <a:path fill="darkenLess" w="32418" h="21600">
                <a:moveTo>
                  <a:pt x="32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8" y="20200"/>
                </a:lnTo>
                <a:close/>
              </a:path>
              <a:path fill="lighten" w="32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AutoShape 40">
            <a:hlinkClick r:id="rId22" action="ppaction://hlinksldjump"/>
          </p:cNvPr>
          <p:cNvSpPr/>
          <p:nvPr/>
        </p:nvSpPr>
        <p:spPr>
          <a:xfrm>
            <a:off x="4716360" y="5373720"/>
            <a:ext cx="649440" cy="431640"/>
          </a:xfrm>
          <a:custGeom>
            <a:avLst/>
            <a:gdLst>
              <a:gd name="textAreaLeft" fmla="*/ 27720 w 649440"/>
              <a:gd name="textAreaRight" fmla="*/ 621720 w 649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90" h="21600">
                <a:moveTo>
                  <a:pt x="0" y="0"/>
                </a:moveTo>
                <a:lnTo>
                  <a:pt x="32490" y="0"/>
                </a:lnTo>
                <a:lnTo>
                  <a:pt x="32490" y="21600"/>
                </a:lnTo>
                <a:lnTo>
                  <a:pt x="0" y="21600"/>
                </a:lnTo>
                <a:close/>
              </a:path>
              <a:path fill="lightenLess" w="32490" h="21600">
                <a:moveTo>
                  <a:pt x="0" y="0"/>
                </a:moveTo>
                <a:lnTo>
                  <a:pt x="32490" y="0"/>
                </a:lnTo>
                <a:lnTo>
                  <a:pt x="31090" y="1400"/>
                </a:lnTo>
                <a:lnTo>
                  <a:pt x="1400" y="1400"/>
                </a:lnTo>
                <a:close/>
              </a:path>
              <a:path fill="darken" w="32490" h="21600">
                <a:moveTo>
                  <a:pt x="32490" y="0"/>
                </a:moveTo>
                <a:lnTo>
                  <a:pt x="32490" y="21600"/>
                </a:lnTo>
                <a:lnTo>
                  <a:pt x="31090" y="20200"/>
                </a:lnTo>
                <a:lnTo>
                  <a:pt x="31090" y="1400"/>
                </a:lnTo>
                <a:close/>
              </a:path>
              <a:path fill="darkenLess" w="32490" h="21600">
                <a:moveTo>
                  <a:pt x="32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0" y="20200"/>
                </a:lnTo>
                <a:close/>
              </a:path>
              <a:path fill="lighten" w="32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AutoShape 41">
            <a:hlinkClick r:id="rId23" action="ppaction://hlinksldjump"/>
          </p:cNvPr>
          <p:cNvSpPr/>
          <p:nvPr/>
        </p:nvSpPr>
        <p:spPr>
          <a:xfrm>
            <a:off x="5796000" y="537372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AutoShape 42">
            <a:hlinkClick r:id="rId24" action="ppaction://hlinksldjump"/>
          </p:cNvPr>
          <p:cNvSpPr/>
          <p:nvPr/>
        </p:nvSpPr>
        <p:spPr>
          <a:xfrm>
            <a:off x="6877080" y="537372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Monotype Corsiva"/>
              </a:rPr>
              <a:t>Ai reusi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WordArt 4"/>
          <p:cNvSpPr txBox="1"/>
          <p:nvPr/>
        </p:nvSpPr>
        <p:spPr>
          <a:xfrm>
            <a:off x="1835280" y="1773360"/>
            <a:ext cx="4362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Rezultatul este corect!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2340000" y="3645000"/>
            <a:ext cx="4248000" cy="14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Felicitari!!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5" name="AutoShape 6">
            <a:hlinkClick r:id="rId1" action="ppaction://hlinksldjump"/>
          </p:cNvPr>
          <p:cNvSpPr/>
          <p:nvPr/>
        </p:nvSpPr>
        <p:spPr>
          <a:xfrm>
            <a:off x="684360" y="333360"/>
            <a:ext cx="718920" cy="574560"/>
          </a:xfrm>
          <a:custGeom>
            <a:avLst/>
            <a:gdLst>
              <a:gd name="textAreaLeft" fmla="*/ 37080 w 718920"/>
              <a:gd name="textAreaRight" fmla="*/ 681840 w 71892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27024" h="21600">
                <a:moveTo>
                  <a:pt x="0" y="0"/>
                </a:moveTo>
                <a:lnTo>
                  <a:pt x="27024" y="0"/>
                </a:lnTo>
                <a:lnTo>
                  <a:pt x="27024" y="21600"/>
                </a:lnTo>
                <a:lnTo>
                  <a:pt x="0" y="21600"/>
                </a:lnTo>
                <a:close/>
              </a:path>
              <a:path fill="lightenLess" w="27024" h="21600">
                <a:moveTo>
                  <a:pt x="0" y="0"/>
                </a:moveTo>
                <a:lnTo>
                  <a:pt x="27024" y="0"/>
                </a:lnTo>
                <a:lnTo>
                  <a:pt x="25624" y="1400"/>
                </a:lnTo>
                <a:lnTo>
                  <a:pt x="1400" y="1400"/>
                </a:lnTo>
                <a:close/>
              </a:path>
              <a:path fill="darken" w="27024" h="21600">
                <a:moveTo>
                  <a:pt x="27024" y="0"/>
                </a:moveTo>
                <a:lnTo>
                  <a:pt x="27024" y="21600"/>
                </a:lnTo>
                <a:lnTo>
                  <a:pt x="25624" y="20200"/>
                </a:lnTo>
                <a:lnTo>
                  <a:pt x="25624" y="1400"/>
                </a:lnTo>
                <a:close/>
              </a:path>
              <a:path fill="darkenLess" w="27024" h="21600">
                <a:moveTo>
                  <a:pt x="27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24" y="20200"/>
                </a:lnTo>
                <a:close/>
              </a:path>
              <a:path fill="lighten" w="27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24" h="21600">
                <a:moveTo>
                  <a:pt x="6505" y="10800"/>
                </a:moveTo>
                <a:lnTo>
                  <a:pt x="20518" y="3794"/>
                </a:lnTo>
                <a:lnTo>
                  <a:pt x="20518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6" name="WordArt 7"/>
          <p:cNvSpPr txBox="1"/>
          <p:nvPr/>
        </p:nvSpPr>
        <p:spPr>
          <a:xfrm>
            <a:off x="1619280" y="260280"/>
            <a:ext cx="311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apoi la exerciti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WordArt 8"/>
          <p:cNvSpPr txBox="1"/>
          <p:nvPr/>
        </p:nvSpPr>
        <p:spPr>
          <a:xfrm>
            <a:off x="4356000" y="5516640"/>
            <a:ext cx="3162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Pagina urmatoar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8" name="AutoShape 9">
            <a:hlinkClick r:id="rId2" action="ppaction://hlinksldjump"/>
          </p:cNvPr>
          <p:cNvSpPr/>
          <p:nvPr/>
        </p:nvSpPr>
        <p:spPr>
          <a:xfrm>
            <a:off x="7740720" y="5516640"/>
            <a:ext cx="863640" cy="7207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5881" h="21600">
                <a:moveTo>
                  <a:pt x="0" y="0"/>
                </a:moveTo>
                <a:lnTo>
                  <a:pt x="25881" y="0"/>
                </a:lnTo>
                <a:lnTo>
                  <a:pt x="25881" y="21600"/>
                </a:lnTo>
                <a:lnTo>
                  <a:pt x="0" y="21600"/>
                </a:lnTo>
                <a:close/>
              </a:path>
              <a:path fill="lightenLess" w="25881" h="21600">
                <a:moveTo>
                  <a:pt x="0" y="0"/>
                </a:moveTo>
                <a:lnTo>
                  <a:pt x="25881" y="0"/>
                </a:lnTo>
                <a:lnTo>
                  <a:pt x="24481" y="1400"/>
                </a:lnTo>
                <a:lnTo>
                  <a:pt x="1400" y="1400"/>
                </a:lnTo>
                <a:close/>
              </a:path>
              <a:path fill="darken" w="25881" h="21600">
                <a:moveTo>
                  <a:pt x="25881" y="0"/>
                </a:moveTo>
                <a:lnTo>
                  <a:pt x="25881" y="21600"/>
                </a:lnTo>
                <a:lnTo>
                  <a:pt x="24481" y="20200"/>
                </a:lnTo>
                <a:lnTo>
                  <a:pt x="24481" y="1400"/>
                </a:lnTo>
                <a:close/>
              </a:path>
              <a:path fill="darkenLess" w="25881" h="21600">
                <a:moveTo>
                  <a:pt x="25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81" y="20200"/>
                </a:lnTo>
                <a:close/>
              </a:path>
              <a:path fill="lighten" w="25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81" h="21600">
                <a:moveTo>
                  <a:pt x="5934" y="3794"/>
                </a:moveTo>
                <a:lnTo>
                  <a:pt x="19947" y="10800"/>
                </a:lnTo>
                <a:lnTo>
                  <a:pt x="5934" y="17806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e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med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i gresit!!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050920" y="1828800"/>
            <a:ext cx="4897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lang="en-US" sz="8000" spc="-1" strike="noStrike">
                <a:solidFill>
                  <a:srgbClr val="ff6600"/>
                </a:solidFill>
                <a:latin typeface="Monotype Corsiva"/>
              </a:rPr>
              <a:t>Mai                     incearca…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nt"/>
          <p:cNvSpPr/>
          <p:nvPr/>
        </p:nvSpPr>
        <p:spPr>
          <a:xfrm>
            <a:off x="684360" y="83664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32" name="Group 5"/>
          <p:cNvGrpSpPr/>
          <p:nvPr/>
        </p:nvGrpSpPr>
        <p:grpSpPr>
          <a:xfrm>
            <a:off x="5508720" y="3789360"/>
            <a:ext cx="2823840" cy="2328480"/>
            <a:chOff x="5508720" y="3789360"/>
            <a:chExt cx="2823840" cy="2328480"/>
          </a:xfrm>
        </p:grpSpPr>
        <p:sp>
          <p:nvSpPr>
            <p:cNvPr id="233" name="Puzzle3"/>
            <p:cNvSpPr/>
            <p:nvPr/>
          </p:nvSpPr>
          <p:spPr>
            <a:xfrm>
              <a:off x="6883920" y="3789360"/>
              <a:ext cx="1109880" cy="1237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4" name="Puzzle2"/>
            <p:cNvSpPr/>
            <p:nvPr/>
          </p:nvSpPr>
          <p:spPr>
            <a:xfrm>
              <a:off x="6561000" y="4690800"/>
              <a:ext cx="1771560" cy="112716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5" name="Puzzle4"/>
            <p:cNvSpPr/>
            <p:nvPr/>
          </p:nvSpPr>
          <p:spPr>
            <a:xfrm>
              <a:off x="5875200" y="4676760"/>
              <a:ext cx="1068120" cy="144108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36" name="Puzzle1"/>
            <p:cNvSpPr/>
            <p:nvPr/>
          </p:nvSpPr>
          <p:spPr>
            <a:xfrm>
              <a:off x="5508720" y="4163760"/>
              <a:ext cx="1793880" cy="8589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37" name="AutoShape 10">
            <a:hlinkClick r:id="rId1" action="ppaction://hlinksldjump"/>
          </p:cNvPr>
          <p:cNvSpPr/>
          <p:nvPr/>
        </p:nvSpPr>
        <p:spPr>
          <a:xfrm>
            <a:off x="755640" y="40464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7" h="21600">
                <a:moveTo>
                  <a:pt x="6497" y="10800"/>
                </a:moveTo>
                <a:lnTo>
                  <a:pt x="20510" y="3794"/>
                </a:lnTo>
                <a:lnTo>
                  <a:pt x="20510" y="17806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cce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8" name="WordArt 11"/>
          <p:cNvSpPr txBox="1"/>
          <p:nvPr/>
        </p:nvSpPr>
        <p:spPr>
          <a:xfrm>
            <a:off x="1835280" y="333360"/>
            <a:ext cx="311472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apoi la exerciti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aspunsul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U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este corect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umarul fetelor reprezinta 4 septimi din numarul total de elevi… stiind acest lucru mai incearca o data!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1835280" y="4149720"/>
            <a:ext cx="5257800" cy="720720"/>
          </a:xfrm>
          <a:custGeom>
            <a:avLst/>
            <a:gdLst>
              <a:gd name="textAreaLeft" fmla="*/ 46440 w 5257800"/>
              <a:gd name="textAreaRight" fmla="*/ 5211360 w 52578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157509" h="21600">
                <a:moveTo>
                  <a:pt x="0" y="0"/>
                </a:moveTo>
                <a:lnTo>
                  <a:pt x="157509" y="0"/>
                </a:lnTo>
                <a:lnTo>
                  <a:pt x="157509" y="21600"/>
                </a:lnTo>
                <a:lnTo>
                  <a:pt x="0" y="21600"/>
                </a:lnTo>
                <a:close/>
              </a:path>
              <a:path fill="lightenLess" w="157509" h="21600">
                <a:moveTo>
                  <a:pt x="0" y="0"/>
                </a:moveTo>
                <a:lnTo>
                  <a:pt x="157509" y="0"/>
                </a:lnTo>
                <a:lnTo>
                  <a:pt x="156109" y="1400"/>
                </a:lnTo>
                <a:lnTo>
                  <a:pt x="1400" y="1400"/>
                </a:lnTo>
                <a:close/>
              </a:path>
              <a:path fill="darken" w="157509" h="21600">
                <a:moveTo>
                  <a:pt x="157509" y="0"/>
                </a:moveTo>
                <a:lnTo>
                  <a:pt x="157509" y="21600"/>
                </a:lnTo>
                <a:lnTo>
                  <a:pt x="156109" y="20200"/>
                </a:lnTo>
                <a:lnTo>
                  <a:pt x="156109" y="1400"/>
                </a:lnTo>
                <a:close/>
              </a:path>
              <a:path fill="darkenLess" w="157509" h="21600">
                <a:moveTo>
                  <a:pt x="1575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109" y="20200"/>
                </a:lnTo>
                <a:close/>
              </a:path>
              <a:path fill="lighten" w="1575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03dff"/>
              </a:gs>
              <a:gs pos="100000">
                <a:srgbClr val="341c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apoi la problema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1280" y="1510920"/>
            <a:ext cx="8208720" cy="1846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ca o vocala are valoarea de    din 270 iar o consoana are valoarea de   din 164 ce valoare va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ea cuvantul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PRIETEN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549080" y="4051440"/>
            <a:ext cx="6032520" cy="14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6"/>
              <p:cNvSpPr txBox="1"/>
              <p:nvPr/>
            </p:nvSpPr>
            <p:spPr>
              <a:xfrm>
                <a:off x="5003640" y="1484280"/>
                <a:ext cx="360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7"/>
              <p:cNvSpPr txBox="1"/>
              <p:nvPr/>
            </p:nvSpPr>
            <p:spPr>
              <a:xfrm>
                <a:off x="4572000" y="2133720"/>
                <a:ext cx="3348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6" name="AutoShape 8">
            <a:hlinkClick r:id="rId1" action="ppaction://hlinksldjump"/>
          </p:cNvPr>
          <p:cNvSpPr/>
          <p:nvPr/>
        </p:nvSpPr>
        <p:spPr>
          <a:xfrm>
            <a:off x="971640" y="4437000"/>
            <a:ext cx="1871640" cy="576360"/>
          </a:xfrm>
          <a:custGeom>
            <a:avLst/>
            <a:gdLst>
              <a:gd name="textAreaLeft" fmla="*/ 37080 w 1871640"/>
              <a:gd name="textAreaRight" fmla="*/ 1834560 w 18716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12" h="21600">
                <a:moveTo>
                  <a:pt x="0" y="0"/>
                </a:moveTo>
                <a:lnTo>
                  <a:pt x="70112" y="0"/>
                </a:lnTo>
                <a:lnTo>
                  <a:pt x="70112" y="21600"/>
                </a:lnTo>
                <a:lnTo>
                  <a:pt x="0" y="21600"/>
                </a:lnTo>
                <a:close/>
              </a:path>
              <a:path fill="lightenLess" w="70112" h="21600">
                <a:moveTo>
                  <a:pt x="0" y="0"/>
                </a:moveTo>
                <a:lnTo>
                  <a:pt x="70112" y="0"/>
                </a:lnTo>
                <a:lnTo>
                  <a:pt x="68712" y="1400"/>
                </a:lnTo>
                <a:lnTo>
                  <a:pt x="1400" y="1400"/>
                </a:lnTo>
                <a:close/>
              </a:path>
              <a:path fill="darken" w="70112" h="21600">
                <a:moveTo>
                  <a:pt x="70112" y="0"/>
                </a:moveTo>
                <a:lnTo>
                  <a:pt x="70112" y="21600"/>
                </a:lnTo>
                <a:lnTo>
                  <a:pt x="68712" y="20200"/>
                </a:lnTo>
                <a:lnTo>
                  <a:pt x="68712" y="1400"/>
                </a:lnTo>
                <a:close/>
              </a:path>
              <a:path fill="darkenLess" w="70112" h="21600">
                <a:moveTo>
                  <a:pt x="701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12" y="20200"/>
                </a:lnTo>
                <a:close/>
              </a:path>
              <a:path fill="lighten" w="701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61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7" name="AutoShape 9">
            <a:hlinkClick r:id="rId2" action="ppaction://hlinksldjump"/>
          </p:cNvPr>
          <p:cNvSpPr/>
          <p:nvPr/>
        </p:nvSpPr>
        <p:spPr>
          <a:xfrm>
            <a:off x="3635280" y="4437000"/>
            <a:ext cx="1873440" cy="576360"/>
          </a:xfrm>
          <a:custGeom>
            <a:avLst/>
            <a:gdLst>
              <a:gd name="textAreaLeft" fmla="*/ 37080 w 1873440"/>
              <a:gd name="textAreaRight" fmla="*/ 1836360 w 187344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70180" h="21600">
                <a:moveTo>
                  <a:pt x="0" y="0"/>
                </a:moveTo>
                <a:lnTo>
                  <a:pt x="70180" y="0"/>
                </a:lnTo>
                <a:lnTo>
                  <a:pt x="70180" y="21600"/>
                </a:lnTo>
                <a:lnTo>
                  <a:pt x="0" y="21600"/>
                </a:lnTo>
                <a:close/>
              </a:path>
              <a:path fill="lightenLess" w="70180" h="21600">
                <a:moveTo>
                  <a:pt x="0" y="0"/>
                </a:moveTo>
                <a:lnTo>
                  <a:pt x="70180" y="0"/>
                </a:lnTo>
                <a:lnTo>
                  <a:pt x="68780" y="1400"/>
                </a:lnTo>
                <a:lnTo>
                  <a:pt x="1400" y="1400"/>
                </a:lnTo>
                <a:close/>
              </a:path>
              <a:path fill="darken" w="70180" h="21600">
                <a:moveTo>
                  <a:pt x="70180" y="0"/>
                </a:moveTo>
                <a:lnTo>
                  <a:pt x="70180" y="21600"/>
                </a:lnTo>
                <a:lnTo>
                  <a:pt x="68780" y="20200"/>
                </a:lnTo>
                <a:lnTo>
                  <a:pt x="68780" y="1400"/>
                </a:lnTo>
                <a:close/>
              </a:path>
              <a:path fill="darkenLess" w="70180" h="21600">
                <a:moveTo>
                  <a:pt x="70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0" y="20200"/>
                </a:lnTo>
                <a:close/>
              </a:path>
              <a:path fill="lighten" w="70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50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48" name="AutoShape 10">
            <a:hlinkClick r:id="rId3" action="ppaction://hlinksldjump"/>
          </p:cNvPr>
          <p:cNvSpPr/>
          <p:nvPr/>
        </p:nvSpPr>
        <p:spPr>
          <a:xfrm>
            <a:off x="6300720" y="4437000"/>
            <a:ext cx="1727280" cy="576360"/>
          </a:xfrm>
          <a:custGeom>
            <a:avLst/>
            <a:gdLst>
              <a:gd name="textAreaLeft" fmla="*/ 37080 w 1727280"/>
              <a:gd name="textAreaRight" fmla="*/ 1690200 w 17272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4706" h="21600">
                <a:moveTo>
                  <a:pt x="0" y="0"/>
                </a:moveTo>
                <a:lnTo>
                  <a:pt x="64706" y="0"/>
                </a:lnTo>
                <a:lnTo>
                  <a:pt x="64706" y="21600"/>
                </a:lnTo>
                <a:lnTo>
                  <a:pt x="0" y="21600"/>
                </a:lnTo>
                <a:close/>
              </a:path>
              <a:path fill="lightenLess" w="64706" h="21600">
                <a:moveTo>
                  <a:pt x="0" y="0"/>
                </a:moveTo>
                <a:lnTo>
                  <a:pt x="64706" y="0"/>
                </a:lnTo>
                <a:lnTo>
                  <a:pt x="63306" y="1400"/>
                </a:lnTo>
                <a:lnTo>
                  <a:pt x="1400" y="1400"/>
                </a:lnTo>
                <a:close/>
              </a:path>
              <a:path fill="darken" w="64706" h="21600">
                <a:moveTo>
                  <a:pt x="64706" y="0"/>
                </a:moveTo>
                <a:lnTo>
                  <a:pt x="64706" y="21600"/>
                </a:lnTo>
                <a:lnTo>
                  <a:pt x="63306" y="20200"/>
                </a:lnTo>
                <a:lnTo>
                  <a:pt x="63306" y="1400"/>
                </a:lnTo>
                <a:close/>
              </a:path>
              <a:path fill="darkenLess" w="64706" h="21600">
                <a:moveTo>
                  <a:pt x="647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06" y="20200"/>
                </a:lnTo>
                <a:close/>
              </a:path>
              <a:path fill="lighten" w="647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c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64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12:01:50Z</dcterms:created>
  <dc:creator>Iul</dc:creator>
  <dc:description/>
  <dc:language>en-US</dc:language>
  <cp:lastModifiedBy>asd</cp:lastModifiedBy>
  <dcterms:modified xsi:type="dcterms:W3CDTF">2009-03-30T07:07:09Z</dcterms:modified>
  <cp:revision>13</cp:revision>
  <dc:subject/>
  <dc:title>   </dc:title>
</cp:coreProperties>
</file>